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FE2B-6972-4FEB-B37A-EB769E8B5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664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6BF0-55E7-46D0-9DC7-03CF887DF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664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664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E0CC-E783-4C79-AC8F-1D48A4DE0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2514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2514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664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664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664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D85C-2788-4A42-B21C-3A1564B3E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F064-A3AB-428D-9A49-89FC5F870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0BFA-A3DA-4BB1-B314-2E852749F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9481-7281-4542-843E-A4D471A3D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6174-B033-46CA-9FAD-DACE9B3C1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FDE0-4765-4357-9A3A-7B6DC91F6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664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1D5A-6027-433A-9985-F02BBFD0C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664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1114-253C-4421-9AA9-09497400A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664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2142-E1EE-4F87-8653-B946CB374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47F68-7775-4E99-9EF2-F75E650FDB53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9144000" cy="1303200"/>
            <a:chOff x="0" y="0"/>
            <a:chExt cx="9144000" cy="1303200"/>
          </a:xfrm>
        </p:grpSpPr>
        <p:pic>
          <p:nvPicPr>
            <p:cNvPr id="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30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" name=""/>
            <p:cNvSpPr/>
            <p:nvPr/>
          </p:nvSpPr>
          <p:spPr>
            <a:xfrm>
              <a:off x="1143000" y="330120"/>
              <a:ext cx="4267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Narrow"/>
                </a:rPr>
                <a:t>Ministerio de la Protección Social                              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 Narrow"/>
                </a:rPr>
                <a:t>República de Colombi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769680" cy="8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"/>
          <p:cNvGraphicFramePr/>
          <p:nvPr/>
        </p:nvGraphicFramePr>
        <p:xfrm>
          <a:off x="228600" y="2971800"/>
          <a:ext cx="961920" cy="961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2971800"/>
                    <a:ext cx="961920" cy="96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0" y="236232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 Narrow"/>
              </a:rPr>
              <a:t>Banco Interamerica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 Narrow"/>
              </a:rPr>
              <a:t>De Desarroll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4500720" y="1425600"/>
            <a:ext cx="3743280" cy="35431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50920" y="4653000"/>
            <a:ext cx="71517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nvenio de Cooperació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MINISTERIO DE LA PROTECCIÓN SO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Programa Apoyo a la Reforma de Salud - P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BANCO INTERAMERICANO DE DESARROL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Instituto Interamericano para el Desarrollo Social - IN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Productos específicos de la Iniciati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1128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ágina web de la Iniciativa (actualizada) con el material académico, documentos técnicos y publicaciones </a:t>
            </a:r>
            <a:r>
              <a:rPr b="0" lang="es-ES" sz="2400" spc="-1" strike="noStrike">
                <a:solidFill>
                  <a:srgbClr val="30399c"/>
                </a:solidFill>
                <a:latin typeface="Arial"/>
              </a:rPr>
              <a:t>– www.gerenciasocial.gov.c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Kits” de formación autodidacta con videos de expertos en DVD, presentaciones en power point y material académico de lectu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Arial"/>
              </a:rPr>
              <a:t>Producción del material académico y pedagógico para la oferta de los cursos region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Arial"/>
              </a:rPr>
              <a:t>Desarrollo de estudios de caso sobre la política de protección soc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Productos específicos de la Iniciati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ublicación del documento técnico: Marco conceptual de la política de protección social en Colomb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ublicación de una serie de 11 documentos sob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La política pública de protección social – M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Valor publico, gerencia social y desarrollo  - IN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Protección social, construcción de ciudadanía, participación -  CI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Asistencia social, cajas, subsidio familiar - 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Gestión de redes, comunicación y articulación interorganizacional - ICES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Monitoreo y evaluación - ICES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Desarrollo territorial y descentralización - UDE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SPS y derechos sociales  - STO TOM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Desafíos pendientes en PS  - TO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Poblaciones vulnerables  - STO TOM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Marco legal comentado  - 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Origen de la PS como política publica  - CI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Logros de la Iniciativ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4360" y="2205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Arial"/>
              </a:rPr>
              <a:t>Creación de áreas académicas y líneas de investigación nuevas al interior de las universidades sobre protección soc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Arial"/>
              </a:rPr>
              <a:t>Inicio de procesos administrativos y legales para aprobar y registrar la oferta educativa a nivel de postgrado, en “Gerencia Social para la Protección Social”- con el apoyo del Ministerio de Educ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n Seminario Nacional sobre Gerencia de la Política de Protección Social llevado a cabo por iniciativa de las universidades (próximament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n evento nacional para concluir las actividades de la Iniciativa con el fin de socializar los resultados y difundir los product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ONTAC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ecilia Echeverri Velas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nsultora PARS-M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el: 336 50 66 ext. 184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el: 300-619 93 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echeverri@minproteccionsocial.gov.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José Jorge Saaved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ocente IN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josejs@iadb.or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132000" y="2421000"/>
            <a:ext cx="2878200" cy="27208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853080" y="5877000"/>
            <a:ext cx="14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Gracia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0920" y="1484280"/>
            <a:ext cx="864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¿Cuál es la propuesta? 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venio MPS-IN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11280" y="2349000"/>
            <a:ext cx="7772400" cy="41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arrollar una estrategia educativa nacional para el fortalecimiento institucional en la gestión de políticas públicas y programas en P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rar los conceptos, prácticas y herramientas de la gerencia social del INDES a la gestión del SPS y su puesta en march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ormar una Red Educativa para dar apoyo al fortalecimiento de las estrategias de protección social en Colomb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ar agentes de cambio para desarrollar una oferta académica sobre PS y preparar a una masa crítica para consolidar el SP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 qué le apostamos?</a:t>
            </a:r>
            <a:br>
              <a:rPr sz="3200"/>
            </a:b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Razón de ser de la Iniciati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Apoyar la construcción del SP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desde las persona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fortaleciendo conocimientos y habilidade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formación busca s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plic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rticul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ransfer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ali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Objetivos de la formación académ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1280" y="191628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ar un marco de referencia sobr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 por qué (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razón de ser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) del concepto de protección social y de la creación del SP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 para qué (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propósit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) de la creación del MPS,  su integración con entidades adscritas y vinculadas, su articulación con demás agentes y las relaciones con el nivel loc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 para quién (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ciudadanía activ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) de las acciones del SP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Objetivos de la formación académ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ar las herramientas par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alizar una gestión estratégica enfocada en el impacto de los resultados institucionales y en consecuencia en la generación de valor públi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Generar capacidades y habilidades para la articulación, integración y convergencia de la política pública de PS dentro de la complejidad institucional del SP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romover la reflexión con el fin de producir prácticas innovador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4360" y="1196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¿Cómo llevarlo a cabo?</a:t>
            </a:r>
            <a:br>
              <a:rPr sz="3200"/>
            </a:b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Red educativa - regionaliz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85440" y="251460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47960" y="25146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nstituto de Ciencias de la Salud (CES)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zona nor-occid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niversidad de Antioquia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zona sur-ori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niversidad ICESI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zona sur-occid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niversidad Santo Tomás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zona nor-ori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niversidad de los Andes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zona cent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900000" y="2276640"/>
            <a:ext cx="2971800" cy="4038480"/>
            <a:chOff x="900000" y="2276640"/>
            <a:chExt cx="2971800" cy="4038480"/>
          </a:xfrm>
        </p:grpSpPr>
        <p:grpSp>
          <p:nvGrpSpPr>
            <p:cNvPr id="62" name=""/>
            <p:cNvGrpSpPr/>
            <p:nvPr/>
          </p:nvGrpSpPr>
          <p:grpSpPr>
            <a:xfrm>
              <a:off x="900000" y="2276640"/>
              <a:ext cx="2971800" cy="4038480"/>
              <a:chOff x="900000" y="2276640"/>
              <a:chExt cx="2971800" cy="4038480"/>
            </a:xfrm>
          </p:grpSpPr>
          <p:grpSp>
            <p:nvGrpSpPr>
              <p:cNvPr id="63" name=""/>
              <p:cNvGrpSpPr/>
              <p:nvPr/>
            </p:nvGrpSpPr>
            <p:grpSpPr>
              <a:xfrm>
                <a:off x="900000" y="2276640"/>
                <a:ext cx="2971800" cy="4038480"/>
                <a:chOff x="900000" y="2276640"/>
                <a:chExt cx="2971800" cy="4038480"/>
              </a:xfrm>
            </p:grpSpPr>
            <p:sp>
              <p:nvSpPr>
                <p:cNvPr id="64" name=""/>
                <p:cNvSpPr/>
                <p:nvPr/>
              </p:nvSpPr>
              <p:spPr>
                <a:xfrm>
                  <a:off x="900000" y="2276640"/>
                  <a:ext cx="2966400" cy="4032720"/>
                </a:xfrm>
                <a:custGeom>
                  <a:avLst/>
                  <a:gdLst/>
                  <a:ahLst/>
                  <a:rect l="l" t="t" r="r" b="b"/>
                  <a:pathLst>
                    <a:path w="2731" h="3595">
                      <a:moveTo>
                        <a:pt x="398" y="1854"/>
                      </a:moveTo>
                      <a:lnTo>
                        <a:pt x="404" y="1853"/>
                      </a:lnTo>
                      <a:lnTo>
                        <a:pt x="411" y="1846"/>
                      </a:lnTo>
                      <a:lnTo>
                        <a:pt x="419" y="1844"/>
                      </a:lnTo>
                      <a:lnTo>
                        <a:pt x="429" y="1849"/>
                      </a:lnTo>
                      <a:lnTo>
                        <a:pt x="418" y="1858"/>
                      </a:lnTo>
                      <a:lnTo>
                        <a:pt x="416" y="1871"/>
                      </a:lnTo>
                      <a:lnTo>
                        <a:pt x="416" y="1884"/>
                      </a:lnTo>
                      <a:lnTo>
                        <a:pt x="409" y="1896"/>
                      </a:lnTo>
                      <a:lnTo>
                        <a:pt x="398" y="1899"/>
                      </a:lnTo>
                      <a:lnTo>
                        <a:pt x="388" y="1904"/>
                      </a:lnTo>
                      <a:lnTo>
                        <a:pt x="383" y="1911"/>
                      </a:lnTo>
                      <a:lnTo>
                        <a:pt x="382" y="1921"/>
                      </a:lnTo>
                      <a:lnTo>
                        <a:pt x="382" y="1931"/>
                      </a:lnTo>
                      <a:lnTo>
                        <a:pt x="377" y="1936"/>
                      </a:lnTo>
                      <a:lnTo>
                        <a:pt x="356" y="1953"/>
                      </a:lnTo>
                      <a:lnTo>
                        <a:pt x="336" y="1970"/>
                      </a:lnTo>
                      <a:lnTo>
                        <a:pt x="341" y="1973"/>
                      </a:lnTo>
                      <a:lnTo>
                        <a:pt x="341" y="1978"/>
                      </a:lnTo>
                      <a:lnTo>
                        <a:pt x="321" y="1997"/>
                      </a:lnTo>
                      <a:lnTo>
                        <a:pt x="301" y="2017"/>
                      </a:lnTo>
                      <a:lnTo>
                        <a:pt x="299" y="2037"/>
                      </a:lnTo>
                      <a:lnTo>
                        <a:pt x="296" y="2058"/>
                      </a:lnTo>
                      <a:lnTo>
                        <a:pt x="280" y="2076"/>
                      </a:lnTo>
                      <a:lnTo>
                        <a:pt x="258" y="2083"/>
                      </a:lnTo>
                      <a:lnTo>
                        <a:pt x="248" y="2085"/>
                      </a:lnTo>
                      <a:lnTo>
                        <a:pt x="240" y="2091"/>
                      </a:lnTo>
                      <a:lnTo>
                        <a:pt x="234" y="2096"/>
                      </a:lnTo>
                      <a:lnTo>
                        <a:pt x="225" y="2096"/>
                      </a:lnTo>
                      <a:lnTo>
                        <a:pt x="228" y="2103"/>
                      </a:lnTo>
                      <a:lnTo>
                        <a:pt x="226" y="2114"/>
                      </a:lnTo>
                      <a:lnTo>
                        <a:pt x="221" y="2117"/>
                      </a:lnTo>
                      <a:lnTo>
                        <a:pt x="215" y="2116"/>
                      </a:lnTo>
                      <a:lnTo>
                        <a:pt x="209" y="2108"/>
                      </a:lnTo>
                      <a:lnTo>
                        <a:pt x="203" y="2100"/>
                      </a:lnTo>
                      <a:lnTo>
                        <a:pt x="194" y="2096"/>
                      </a:lnTo>
                      <a:lnTo>
                        <a:pt x="189" y="2100"/>
                      </a:lnTo>
                      <a:lnTo>
                        <a:pt x="178" y="2111"/>
                      </a:lnTo>
                      <a:lnTo>
                        <a:pt x="165" y="2119"/>
                      </a:lnTo>
                      <a:lnTo>
                        <a:pt x="162" y="2126"/>
                      </a:lnTo>
                      <a:lnTo>
                        <a:pt x="162" y="2132"/>
                      </a:lnTo>
                      <a:lnTo>
                        <a:pt x="157" y="2134"/>
                      </a:lnTo>
                      <a:lnTo>
                        <a:pt x="156" y="2137"/>
                      </a:lnTo>
                      <a:lnTo>
                        <a:pt x="151" y="2128"/>
                      </a:lnTo>
                      <a:lnTo>
                        <a:pt x="144" y="2122"/>
                      </a:lnTo>
                      <a:lnTo>
                        <a:pt x="138" y="2118"/>
                      </a:lnTo>
                      <a:lnTo>
                        <a:pt x="130" y="2122"/>
                      </a:lnTo>
                      <a:lnTo>
                        <a:pt x="110" y="2137"/>
                      </a:lnTo>
                      <a:lnTo>
                        <a:pt x="94" y="2153"/>
                      </a:lnTo>
                      <a:lnTo>
                        <a:pt x="88" y="2170"/>
                      </a:lnTo>
                      <a:lnTo>
                        <a:pt x="79" y="2187"/>
                      </a:lnTo>
                      <a:lnTo>
                        <a:pt x="82" y="2194"/>
                      </a:lnTo>
                      <a:lnTo>
                        <a:pt x="92" y="2199"/>
                      </a:lnTo>
                      <a:lnTo>
                        <a:pt x="94" y="2201"/>
                      </a:lnTo>
                      <a:lnTo>
                        <a:pt x="89" y="2206"/>
                      </a:lnTo>
                      <a:lnTo>
                        <a:pt x="88" y="2206"/>
                      </a:lnTo>
                      <a:lnTo>
                        <a:pt x="86" y="2206"/>
                      </a:lnTo>
                      <a:lnTo>
                        <a:pt x="81" y="2214"/>
                      </a:lnTo>
                      <a:lnTo>
                        <a:pt x="79" y="2221"/>
                      </a:lnTo>
                      <a:lnTo>
                        <a:pt x="81" y="2231"/>
                      </a:lnTo>
                      <a:lnTo>
                        <a:pt x="83" y="2237"/>
                      </a:lnTo>
                      <a:lnTo>
                        <a:pt x="92" y="2239"/>
                      </a:lnTo>
                      <a:lnTo>
                        <a:pt x="100" y="2234"/>
                      </a:lnTo>
                      <a:lnTo>
                        <a:pt x="100" y="2244"/>
                      </a:lnTo>
                      <a:lnTo>
                        <a:pt x="94" y="2252"/>
                      </a:lnTo>
                      <a:lnTo>
                        <a:pt x="94" y="2257"/>
                      </a:lnTo>
                      <a:lnTo>
                        <a:pt x="99" y="2259"/>
                      </a:lnTo>
                      <a:lnTo>
                        <a:pt x="104" y="2262"/>
                      </a:lnTo>
                      <a:lnTo>
                        <a:pt x="107" y="2265"/>
                      </a:lnTo>
                      <a:lnTo>
                        <a:pt x="107" y="2272"/>
                      </a:lnTo>
                      <a:lnTo>
                        <a:pt x="108" y="2280"/>
                      </a:lnTo>
                      <a:lnTo>
                        <a:pt x="106" y="2285"/>
                      </a:lnTo>
                      <a:lnTo>
                        <a:pt x="100" y="2285"/>
                      </a:lnTo>
                      <a:lnTo>
                        <a:pt x="84" y="2280"/>
                      </a:lnTo>
                      <a:lnTo>
                        <a:pt x="69" y="2280"/>
                      </a:lnTo>
                      <a:lnTo>
                        <a:pt x="52" y="2283"/>
                      </a:lnTo>
                      <a:lnTo>
                        <a:pt x="36" y="2285"/>
                      </a:lnTo>
                      <a:lnTo>
                        <a:pt x="23" y="2292"/>
                      </a:lnTo>
                      <a:lnTo>
                        <a:pt x="13" y="2302"/>
                      </a:lnTo>
                      <a:lnTo>
                        <a:pt x="5" y="2313"/>
                      </a:lnTo>
                      <a:lnTo>
                        <a:pt x="0" y="2325"/>
                      </a:lnTo>
                      <a:lnTo>
                        <a:pt x="0" y="2331"/>
                      </a:lnTo>
                      <a:lnTo>
                        <a:pt x="3" y="2336"/>
                      </a:lnTo>
                      <a:lnTo>
                        <a:pt x="1" y="2335"/>
                      </a:lnTo>
                      <a:lnTo>
                        <a:pt x="0" y="2333"/>
                      </a:lnTo>
                      <a:lnTo>
                        <a:pt x="11" y="2341"/>
                      </a:lnTo>
                      <a:lnTo>
                        <a:pt x="26" y="2348"/>
                      </a:lnTo>
                      <a:lnTo>
                        <a:pt x="42" y="2366"/>
                      </a:lnTo>
                      <a:lnTo>
                        <a:pt x="60" y="2381"/>
                      </a:lnTo>
                      <a:lnTo>
                        <a:pt x="89" y="2406"/>
                      </a:lnTo>
                      <a:lnTo>
                        <a:pt x="123" y="2425"/>
                      </a:lnTo>
                      <a:lnTo>
                        <a:pt x="137" y="2435"/>
                      </a:lnTo>
                      <a:lnTo>
                        <a:pt x="147" y="2450"/>
                      </a:lnTo>
                      <a:lnTo>
                        <a:pt x="159" y="2453"/>
                      </a:lnTo>
                      <a:lnTo>
                        <a:pt x="167" y="2456"/>
                      </a:lnTo>
                      <a:lnTo>
                        <a:pt x="198" y="2477"/>
                      </a:lnTo>
                      <a:lnTo>
                        <a:pt x="228" y="2497"/>
                      </a:lnTo>
                      <a:lnTo>
                        <a:pt x="234" y="2502"/>
                      </a:lnTo>
                      <a:lnTo>
                        <a:pt x="240" y="2507"/>
                      </a:lnTo>
                      <a:lnTo>
                        <a:pt x="249" y="2510"/>
                      </a:lnTo>
                      <a:lnTo>
                        <a:pt x="257" y="2507"/>
                      </a:lnTo>
                      <a:lnTo>
                        <a:pt x="273" y="2500"/>
                      </a:lnTo>
                      <a:lnTo>
                        <a:pt x="290" y="2497"/>
                      </a:lnTo>
                      <a:lnTo>
                        <a:pt x="300" y="2494"/>
                      </a:lnTo>
                      <a:lnTo>
                        <a:pt x="308" y="2499"/>
                      </a:lnTo>
                      <a:lnTo>
                        <a:pt x="312" y="2517"/>
                      </a:lnTo>
                      <a:lnTo>
                        <a:pt x="322" y="2529"/>
                      </a:lnTo>
                      <a:lnTo>
                        <a:pt x="332" y="2540"/>
                      </a:lnTo>
                      <a:lnTo>
                        <a:pt x="341" y="2551"/>
                      </a:lnTo>
                      <a:lnTo>
                        <a:pt x="353" y="2578"/>
                      </a:lnTo>
                      <a:lnTo>
                        <a:pt x="369" y="2603"/>
                      </a:lnTo>
                      <a:lnTo>
                        <a:pt x="373" y="2598"/>
                      </a:lnTo>
                      <a:lnTo>
                        <a:pt x="378" y="2594"/>
                      </a:lnTo>
                      <a:lnTo>
                        <a:pt x="388" y="2596"/>
                      </a:lnTo>
                      <a:lnTo>
                        <a:pt x="398" y="2602"/>
                      </a:lnTo>
                      <a:lnTo>
                        <a:pt x="409" y="2603"/>
                      </a:lnTo>
                      <a:lnTo>
                        <a:pt x="421" y="2601"/>
                      </a:lnTo>
                      <a:lnTo>
                        <a:pt x="433" y="2601"/>
                      </a:lnTo>
                      <a:lnTo>
                        <a:pt x="445" y="2611"/>
                      </a:lnTo>
                      <a:lnTo>
                        <a:pt x="451" y="2612"/>
                      </a:lnTo>
                      <a:lnTo>
                        <a:pt x="460" y="2613"/>
                      </a:lnTo>
                      <a:lnTo>
                        <a:pt x="471" y="2622"/>
                      </a:lnTo>
                      <a:lnTo>
                        <a:pt x="482" y="2624"/>
                      </a:lnTo>
                      <a:lnTo>
                        <a:pt x="495" y="2626"/>
                      </a:lnTo>
                      <a:lnTo>
                        <a:pt x="507" y="2628"/>
                      </a:lnTo>
                      <a:lnTo>
                        <a:pt x="513" y="2629"/>
                      </a:lnTo>
                      <a:lnTo>
                        <a:pt x="516" y="2626"/>
                      </a:lnTo>
                      <a:lnTo>
                        <a:pt x="518" y="2619"/>
                      </a:lnTo>
                      <a:lnTo>
                        <a:pt x="521" y="2617"/>
                      </a:lnTo>
                      <a:lnTo>
                        <a:pt x="536" y="2621"/>
                      </a:lnTo>
                      <a:lnTo>
                        <a:pt x="545" y="2628"/>
                      </a:lnTo>
                      <a:lnTo>
                        <a:pt x="568" y="2630"/>
                      </a:lnTo>
                      <a:lnTo>
                        <a:pt x="589" y="2623"/>
                      </a:lnTo>
                      <a:lnTo>
                        <a:pt x="595" y="2614"/>
                      </a:lnTo>
                      <a:lnTo>
                        <a:pt x="597" y="2603"/>
                      </a:lnTo>
                      <a:lnTo>
                        <a:pt x="599" y="2593"/>
                      </a:lnTo>
                      <a:lnTo>
                        <a:pt x="610" y="2587"/>
                      </a:lnTo>
                      <a:lnTo>
                        <a:pt x="628" y="2591"/>
                      </a:lnTo>
                      <a:lnTo>
                        <a:pt x="646" y="2594"/>
                      </a:lnTo>
                      <a:lnTo>
                        <a:pt x="650" y="2597"/>
                      </a:lnTo>
                      <a:lnTo>
                        <a:pt x="650" y="2603"/>
                      </a:lnTo>
                      <a:lnTo>
                        <a:pt x="658" y="2602"/>
                      </a:lnTo>
                      <a:lnTo>
                        <a:pt x="665" y="2603"/>
                      </a:lnTo>
                      <a:lnTo>
                        <a:pt x="683" y="2626"/>
                      </a:lnTo>
                      <a:lnTo>
                        <a:pt x="701" y="2647"/>
                      </a:lnTo>
                      <a:lnTo>
                        <a:pt x="725" y="2662"/>
                      </a:lnTo>
                      <a:lnTo>
                        <a:pt x="762" y="2663"/>
                      </a:lnTo>
                      <a:lnTo>
                        <a:pt x="775" y="2665"/>
                      </a:lnTo>
                      <a:lnTo>
                        <a:pt x="790" y="2674"/>
                      </a:lnTo>
                      <a:lnTo>
                        <a:pt x="804" y="2685"/>
                      </a:lnTo>
                      <a:lnTo>
                        <a:pt x="817" y="2696"/>
                      </a:lnTo>
                      <a:lnTo>
                        <a:pt x="840" y="2699"/>
                      </a:lnTo>
                      <a:lnTo>
                        <a:pt x="859" y="2693"/>
                      </a:lnTo>
                      <a:lnTo>
                        <a:pt x="879" y="2695"/>
                      </a:lnTo>
                      <a:lnTo>
                        <a:pt x="898" y="2705"/>
                      </a:lnTo>
                      <a:lnTo>
                        <a:pt x="916" y="2719"/>
                      </a:lnTo>
                      <a:lnTo>
                        <a:pt x="938" y="2729"/>
                      </a:lnTo>
                      <a:lnTo>
                        <a:pt x="939" y="2722"/>
                      </a:lnTo>
                      <a:lnTo>
                        <a:pt x="942" y="2719"/>
                      </a:lnTo>
                      <a:lnTo>
                        <a:pt x="950" y="2726"/>
                      </a:lnTo>
                      <a:lnTo>
                        <a:pt x="955" y="2734"/>
                      </a:lnTo>
                      <a:lnTo>
                        <a:pt x="955" y="2744"/>
                      </a:lnTo>
                      <a:lnTo>
                        <a:pt x="957" y="2749"/>
                      </a:lnTo>
                      <a:lnTo>
                        <a:pt x="992" y="2767"/>
                      </a:lnTo>
                      <a:lnTo>
                        <a:pt x="1019" y="2790"/>
                      </a:lnTo>
                      <a:lnTo>
                        <a:pt x="1040" y="2818"/>
                      </a:lnTo>
                      <a:lnTo>
                        <a:pt x="1049" y="2854"/>
                      </a:lnTo>
                      <a:lnTo>
                        <a:pt x="1058" y="2859"/>
                      </a:lnTo>
                      <a:lnTo>
                        <a:pt x="1062" y="2869"/>
                      </a:lnTo>
                      <a:lnTo>
                        <a:pt x="1062" y="2870"/>
                      </a:lnTo>
                      <a:lnTo>
                        <a:pt x="1057" y="2871"/>
                      </a:lnTo>
                      <a:lnTo>
                        <a:pt x="1054" y="2872"/>
                      </a:lnTo>
                      <a:lnTo>
                        <a:pt x="1054" y="2875"/>
                      </a:lnTo>
                      <a:lnTo>
                        <a:pt x="1062" y="2891"/>
                      </a:lnTo>
                      <a:lnTo>
                        <a:pt x="1071" y="2901"/>
                      </a:lnTo>
                      <a:lnTo>
                        <a:pt x="1089" y="2906"/>
                      </a:lnTo>
                      <a:lnTo>
                        <a:pt x="1105" y="2916"/>
                      </a:lnTo>
                      <a:lnTo>
                        <a:pt x="1109" y="2913"/>
                      </a:lnTo>
                      <a:lnTo>
                        <a:pt x="1113" y="2906"/>
                      </a:lnTo>
                      <a:lnTo>
                        <a:pt x="1120" y="2908"/>
                      </a:lnTo>
                      <a:lnTo>
                        <a:pt x="1122" y="2917"/>
                      </a:lnTo>
                      <a:lnTo>
                        <a:pt x="1120" y="2918"/>
                      </a:lnTo>
                      <a:lnTo>
                        <a:pt x="1118" y="2921"/>
                      </a:lnTo>
                      <a:lnTo>
                        <a:pt x="1126" y="2923"/>
                      </a:lnTo>
                      <a:lnTo>
                        <a:pt x="1136" y="2928"/>
                      </a:lnTo>
                      <a:lnTo>
                        <a:pt x="1146" y="2939"/>
                      </a:lnTo>
                      <a:lnTo>
                        <a:pt x="1156" y="2951"/>
                      </a:lnTo>
                      <a:lnTo>
                        <a:pt x="1175" y="2953"/>
                      </a:lnTo>
                      <a:lnTo>
                        <a:pt x="1196" y="2954"/>
                      </a:lnTo>
                      <a:lnTo>
                        <a:pt x="1212" y="2969"/>
                      </a:lnTo>
                      <a:lnTo>
                        <a:pt x="1220" y="2992"/>
                      </a:lnTo>
                      <a:lnTo>
                        <a:pt x="1225" y="2997"/>
                      </a:lnTo>
                      <a:lnTo>
                        <a:pt x="1233" y="2997"/>
                      </a:lnTo>
                      <a:lnTo>
                        <a:pt x="1238" y="3012"/>
                      </a:lnTo>
                      <a:lnTo>
                        <a:pt x="1235" y="3027"/>
                      </a:lnTo>
                      <a:lnTo>
                        <a:pt x="1231" y="3040"/>
                      </a:lnTo>
                      <a:lnTo>
                        <a:pt x="1230" y="3050"/>
                      </a:lnTo>
                      <a:lnTo>
                        <a:pt x="1238" y="3065"/>
                      </a:lnTo>
                      <a:lnTo>
                        <a:pt x="1254" y="3074"/>
                      </a:lnTo>
                      <a:lnTo>
                        <a:pt x="1275" y="3078"/>
                      </a:lnTo>
                      <a:lnTo>
                        <a:pt x="1298" y="3078"/>
                      </a:lnTo>
                      <a:lnTo>
                        <a:pt x="1299" y="3072"/>
                      </a:lnTo>
                      <a:lnTo>
                        <a:pt x="1302" y="3069"/>
                      </a:lnTo>
                      <a:lnTo>
                        <a:pt x="1314" y="3079"/>
                      </a:lnTo>
                      <a:lnTo>
                        <a:pt x="1320" y="3092"/>
                      </a:lnTo>
                      <a:lnTo>
                        <a:pt x="1324" y="3117"/>
                      </a:lnTo>
                      <a:lnTo>
                        <a:pt x="1321" y="3140"/>
                      </a:lnTo>
                      <a:lnTo>
                        <a:pt x="1317" y="3153"/>
                      </a:lnTo>
                      <a:lnTo>
                        <a:pt x="1312" y="3163"/>
                      </a:lnTo>
                      <a:lnTo>
                        <a:pt x="1312" y="3173"/>
                      </a:lnTo>
                      <a:lnTo>
                        <a:pt x="1319" y="3183"/>
                      </a:lnTo>
                      <a:lnTo>
                        <a:pt x="1338" y="3191"/>
                      </a:lnTo>
                      <a:lnTo>
                        <a:pt x="1358" y="3199"/>
                      </a:lnTo>
                      <a:lnTo>
                        <a:pt x="1356" y="3209"/>
                      </a:lnTo>
                      <a:lnTo>
                        <a:pt x="1363" y="3216"/>
                      </a:lnTo>
                      <a:lnTo>
                        <a:pt x="1381" y="3216"/>
                      </a:lnTo>
                      <a:lnTo>
                        <a:pt x="1398" y="3206"/>
                      </a:lnTo>
                      <a:lnTo>
                        <a:pt x="1404" y="3204"/>
                      </a:lnTo>
                      <a:lnTo>
                        <a:pt x="1411" y="3206"/>
                      </a:lnTo>
                      <a:lnTo>
                        <a:pt x="1419" y="3212"/>
                      </a:lnTo>
                      <a:lnTo>
                        <a:pt x="1429" y="3217"/>
                      </a:lnTo>
                      <a:lnTo>
                        <a:pt x="1429" y="3206"/>
                      </a:lnTo>
                      <a:lnTo>
                        <a:pt x="1436" y="3201"/>
                      </a:lnTo>
                      <a:lnTo>
                        <a:pt x="1453" y="3202"/>
                      </a:lnTo>
                      <a:lnTo>
                        <a:pt x="1468" y="3202"/>
                      </a:lnTo>
                      <a:lnTo>
                        <a:pt x="1482" y="3206"/>
                      </a:lnTo>
                      <a:lnTo>
                        <a:pt x="1492" y="3217"/>
                      </a:lnTo>
                      <a:lnTo>
                        <a:pt x="1508" y="3216"/>
                      </a:lnTo>
                      <a:lnTo>
                        <a:pt x="1524" y="3216"/>
                      </a:lnTo>
                      <a:lnTo>
                        <a:pt x="1524" y="3212"/>
                      </a:lnTo>
                      <a:lnTo>
                        <a:pt x="1520" y="3209"/>
                      </a:lnTo>
                      <a:lnTo>
                        <a:pt x="1523" y="3204"/>
                      </a:lnTo>
                      <a:lnTo>
                        <a:pt x="1529" y="3204"/>
                      </a:lnTo>
                      <a:lnTo>
                        <a:pt x="1533" y="3207"/>
                      </a:lnTo>
                      <a:lnTo>
                        <a:pt x="1533" y="3214"/>
                      </a:lnTo>
                      <a:lnTo>
                        <a:pt x="1542" y="3214"/>
                      </a:lnTo>
                      <a:lnTo>
                        <a:pt x="1546" y="3212"/>
                      </a:lnTo>
                      <a:lnTo>
                        <a:pt x="1553" y="3199"/>
                      </a:lnTo>
                      <a:lnTo>
                        <a:pt x="1566" y="3194"/>
                      </a:lnTo>
                      <a:lnTo>
                        <a:pt x="1581" y="3191"/>
                      </a:lnTo>
                      <a:lnTo>
                        <a:pt x="1592" y="3188"/>
                      </a:lnTo>
                      <a:lnTo>
                        <a:pt x="1610" y="3166"/>
                      </a:lnTo>
                      <a:lnTo>
                        <a:pt x="1630" y="3145"/>
                      </a:lnTo>
                      <a:lnTo>
                        <a:pt x="1636" y="3147"/>
                      </a:lnTo>
                      <a:lnTo>
                        <a:pt x="1641" y="3150"/>
                      </a:lnTo>
                      <a:lnTo>
                        <a:pt x="1641" y="3154"/>
                      </a:lnTo>
                      <a:lnTo>
                        <a:pt x="1641" y="3158"/>
                      </a:lnTo>
                      <a:lnTo>
                        <a:pt x="1654" y="3155"/>
                      </a:lnTo>
                      <a:lnTo>
                        <a:pt x="1667" y="3160"/>
                      </a:lnTo>
                      <a:lnTo>
                        <a:pt x="1678" y="3170"/>
                      </a:lnTo>
                      <a:lnTo>
                        <a:pt x="1686" y="3181"/>
                      </a:lnTo>
                      <a:lnTo>
                        <a:pt x="1686" y="3173"/>
                      </a:lnTo>
                      <a:lnTo>
                        <a:pt x="1690" y="3168"/>
                      </a:lnTo>
                      <a:lnTo>
                        <a:pt x="1703" y="3180"/>
                      </a:lnTo>
                      <a:lnTo>
                        <a:pt x="1714" y="3194"/>
                      </a:lnTo>
                      <a:lnTo>
                        <a:pt x="1725" y="3191"/>
                      </a:lnTo>
                      <a:lnTo>
                        <a:pt x="1731" y="3188"/>
                      </a:lnTo>
                      <a:lnTo>
                        <a:pt x="1748" y="3191"/>
                      </a:lnTo>
                      <a:lnTo>
                        <a:pt x="1761" y="3185"/>
                      </a:lnTo>
                      <a:lnTo>
                        <a:pt x="1772" y="3176"/>
                      </a:lnTo>
                      <a:lnTo>
                        <a:pt x="1783" y="3171"/>
                      </a:lnTo>
                      <a:lnTo>
                        <a:pt x="1805" y="3168"/>
                      </a:lnTo>
                      <a:lnTo>
                        <a:pt x="1825" y="3158"/>
                      </a:lnTo>
                      <a:lnTo>
                        <a:pt x="1838" y="3173"/>
                      </a:lnTo>
                      <a:lnTo>
                        <a:pt x="1855" y="3183"/>
                      </a:lnTo>
                      <a:lnTo>
                        <a:pt x="1871" y="3194"/>
                      </a:lnTo>
                      <a:lnTo>
                        <a:pt x="1883" y="3211"/>
                      </a:lnTo>
                      <a:lnTo>
                        <a:pt x="1890" y="3217"/>
                      </a:lnTo>
                      <a:lnTo>
                        <a:pt x="1903" y="3219"/>
                      </a:lnTo>
                      <a:lnTo>
                        <a:pt x="1916" y="3219"/>
                      </a:lnTo>
                      <a:lnTo>
                        <a:pt x="1927" y="3226"/>
                      </a:lnTo>
                      <a:lnTo>
                        <a:pt x="1927" y="3221"/>
                      </a:lnTo>
                      <a:lnTo>
                        <a:pt x="1932" y="3217"/>
                      </a:lnTo>
                      <a:lnTo>
                        <a:pt x="1937" y="3217"/>
                      </a:lnTo>
                      <a:lnTo>
                        <a:pt x="1940" y="3219"/>
                      </a:lnTo>
                      <a:lnTo>
                        <a:pt x="1945" y="3229"/>
                      </a:lnTo>
                      <a:lnTo>
                        <a:pt x="1947" y="3239"/>
                      </a:lnTo>
                      <a:lnTo>
                        <a:pt x="1952" y="3241"/>
                      </a:lnTo>
                      <a:lnTo>
                        <a:pt x="1960" y="3236"/>
                      </a:lnTo>
                      <a:lnTo>
                        <a:pt x="1969" y="3244"/>
                      </a:lnTo>
                      <a:lnTo>
                        <a:pt x="1978" y="3253"/>
                      </a:lnTo>
                      <a:lnTo>
                        <a:pt x="1985" y="3260"/>
                      </a:lnTo>
                      <a:lnTo>
                        <a:pt x="1997" y="3262"/>
                      </a:lnTo>
                      <a:lnTo>
                        <a:pt x="1997" y="3255"/>
                      </a:lnTo>
                      <a:lnTo>
                        <a:pt x="2000" y="3254"/>
                      </a:lnTo>
                      <a:lnTo>
                        <a:pt x="2006" y="3258"/>
                      </a:lnTo>
                      <a:lnTo>
                        <a:pt x="2008" y="3262"/>
                      </a:lnTo>
                      <a:lnTo>
                        <a:pt x="1937" y="3383"/>
                      </a:lnTo>
                      <a:lnTo>
                        <a:pt x="1859" y="3497"/>
                      </a:lnTo>
                      <a:lnTo>
                        <a:pt x="1864" y="3502"/>
                      </a:lnTo>
                      <a:lnTo>
                        <a:pt x="1880" y="3508"/>
                      </a:lnTo>
                      <a:lnTo>
                        <a:pt x="1900" y="3512"/>
                      </a:lnTo>
                      <a:lnTo>
                        <a:pt x="1916" y="3511"/>
                      </a:lnTo>
                      <a:lnTo>
                        <a:pt x="1935" y="3507"/>
                      </a:lnTo>
                      <a:lnTo>
                        <a:pt x="1953" y="3507"/>
                      </a:lnTo>
                      <a:lnTo>
                        <a:pt x="1968" y="3518"/>
                      </a:lnTo>
                      <a:lnTo>
                        <a:pt x="1976" y="3533"/>
                      </a:lnTo>
                      <a:lnTo>
                        <a:pt x="1989" y="3552"/>
                      </a:lnTo>
                      <a:lnTo>
                        <a:pt x="2003" y="3571"/>
                      </a:lnTo>
                      <a:lnTo>
                        <a:pt x="2018" y="3586"/>
                      </a:lnTo>
                      <a:lnTo>
                        <a:pt x="2034" y="3594"/>
                      </a:lnTo>
                      <a:lnTo>
                        <a:pt x="2155" y="2917"/>
                      </a:lnTo>
                      <a:lnTo>
                        <a:pt x="2147" y="2896"/>
                      </a:lnTo>
                      <a:lnTo>
                        <a:pt x="2133" y="2877"/>
                      </a:lnTo>
                      <a:lnTo>
                        <a:pt x="2121" y="2857"/>
                      </a:lnTo>
                      <a:lnTo>
                        <a:pt x="2115" y="2836"/>
                      </a:lnTo>
                      <a:lnTo>
                        <a:pt x="2117" y="2828"/>
                      </a:lnTo>
                      <a:lnTo>
                        <a:pt x="2122" y="2819"/>
                      </a:lnTo>
                      <a:lnTo>
                        <a:pt x="2126" y="2810"/>
                      </a:lnTo>
                      <a:lnTo>
                        <a:pt x="2125" y="2800"/>
                      </a:lnTo>
                      <a:lnTo>
                        <a:pt x="2104" y="2778"/>
                      </a:lnTo>
                      <a:lnTo>
                        <a:pt x="2073" y="2759"/>
                      </a:lnTo>
                      <a:lnTo>
                        <a:pt x="2040" y="2744"/>
                      </a:lnTo>
                      <a:lnTo>
                        <a:pt x="2016" y="2724"/>
                      </a:lnTo>
                      <a:lnTo>
                        <a:pt x="2013" y="2561"/>
                      </a:lnTo>
                      <a:lnTo>
                        <a:pt x="2026" y="2552"/>
                      </a:lnTo>
                      <a:lnTo>
                        <a:pt x="2049" y="2552"/>
                      </a:lnTo>
                      <a:lnTo>
                        <a:pt x="2076" y="2552"/>
                      </a:lnTo>
                      <a:lnTo>
                        <a:pt x="2097" y="2543"/>
                      </a:lnTo>
                      <a:lnTo>
                        <a:pt x="2107" y="2550"/>
                      </a:lnTo>
                      <a:lnTo>
                        <a:pt x="2115" y="2547"/>
                      </a:lnTo>
                      <a:lnTo>
                        <a:pt x="2123" y="2543"/>
                      </a:lnTo>
                      <a:lnTo>
                        <a:pt x="2130" y="2537"/>
                      </a:lnTo>
                      <a:lnTo>
                        <a:pt x="2136" y="2532"/>
                      </a:lnTo>
                      <a:lnTo>
                        <a:pt x="2142" y="2532"/>
                      </a:lnTo>
                      <a:lnTo>
                        <a:pt x="2170" y="2550"/>
                      </a:lnTo>
                      <a:lnTo>
                        <a:pt x="2200" y="2555"/>
                      </a:lnTo>
                      <a:lnTo>
                        <a:pt x="2205" y="2553"/>
                      </a:lnTo>
                      <a:lnTo>
                        <a:pt x="2212" y="2551"/>
                      </a:lnTo>
                      <a:lnTo>
                        <a:pt x="2218" y="2545"/>
                      </a:lnTo>
                      <a:lnTo>
                        <a:pt x="2218" y="2535"/>
                      </a:lnTo>
                      <a:lnTo>
                        <a:pt x="2212" y="2535"/>
                      </a:lnTo>
                      <a:lnTo>
                        <a:pt x="2209" y="2532"/>
                      </a:lnTo>
                      <a:lnTo>
                        <a:pt x="2210" y="2527"/>
                      </a:lnTo>
                      <a:lnTo>
                        <a:pt x="2212" y="2522"/>
                      </a:lnTo>
                      <a:lnTo>
                        <a:pt x="2212" y="2517"/>
                      </a:lnTo>
                      <a:lnTo>
                        <a:pt x="2209" y="2512"/>
                      </a:lnTo>
                      <a:lnTo>
                        <a:pt x="2217" y="2505"/>
                      </a:lnTo>
                      <a:lnTo>
                        <a:pt x="2220" y="2500"/>
                      </a:lnTo>
                      <a:lnTo>
                        <a:pt x="2209" y="2482"/>
                      </a:lnTo>
                      <a:lnTo>
                        <a:pt x="2194" y="2463"/>
                      </a:lnTo>
                      <a:lnTo>
                        <a:pt x="2175" y="2451"/>
                      </a:lnTo>
                      <a:lnTo>
                        <a:pt x="2147" y="2450"/>
                      </a:lnTo>
                      <a:lnTo>
                        <a:pt x="2128" y="2451"/>
                      </a:lnTo>
                      <a:lnTo>
                        <a:pt x="2104" y="2451"/>
                      </a:lnTo>
                      <a:lnTo>
                        <a:pt x="2080" y="2448"/>
                      </a:lnTo>
                      <a:lnTo>
                        <a:pt x="2063" y="2442"/>
                      </a:lnTo>
                      <a:lnTo>
                        <a:pt x="2063" y="2328"/>
                      </a:lnTo>
                      <a:lnTo>
                        <a:pt x="2067" y="2322"/>
                      </a:lnTo>
                      <a:lnTo>
                        <a:pt x="2075" y="2317"/>
                      </a:lnTo>
                      <a:lnTo>
                        <a:pt x="2094" y="2315"/>
                      </a:lnTo>
                      <a:lnTo>
                        <a:pt x="2113" y="2308"/>
                      </a:lnTo>
                      <a:lnTo>
                        <a:pt x="2128" y="2302"/>
                      </a:lnTo>
                      <a:lnTo>
                        <a:pt x="2139" y="2302"/>
                      </a:lnTo>
                      <a:lnTo>
                        <a:pt x="2149" y="2307"/>
                      </a:lnTo>
                      <a:lnTo>
                        <a:pt x="2167" y="2310"/>
                      </a:lnTo>
                      <a:lnTo>
                        <a:pt x="2188" y="2313"/>
                      </a:lnTo>
                      <a:lnTo>
                        <a:pt x="2209" y="2317"/>
                      </a:lnTo>
                      <a:lnTo>
                        <a:pt x="2215" y="2317"/>
                      </a:lnTo>
                      <a:lnTo>
                        <a:pt x="2235" y="2317"/>
                      </a:lnTo>
                      <a:lnTo>
                        <a:pt x="2261" y="2317"/>
                      </a:lnTo>
                      <a:lnTo>
                        <a:pt x="2295" y="2317"/>
                      </a:lnTo>
                      <a:lnTo>
                        <a:pt x="2332" y="2317"/>
                      </a:lnTo>
                      <a:lnTo>
                        <a:pt x="2370" y="2317"/>
                      </a:lnTo>
                      <a:lnTo>
                        <a:pt x="2405" y="2315"/>
                      </a:lnTo>
                      <a:lnTo>
                        <a:pt x="2435" y="2315"/>
                      </a:lnTo>
                      <a:lnTo>
                        <a:pt x="2435" y="2313"/>
                      </a:lnTo>
                      <a:lnTo>
                        <a:pt x="2430" y="2310"/>
                      </a:lnTo>
                      <a:lnTo>
                        <a:pt x="2424" y="2303"/>
                      </a:lnTo>
                      <a:lnTo>
                        <a:pt x="2419" y="2297"/>
                      </a:lnTo>
                      <a:lnTo>
                        <a:pt x="2418" y="2285"/>
                      </a:lnTo>
                      <a:lnTo>
                        <a:pt x="2422" y="2276"/>
                      </a:lnTo>
                      <a:lnTo>
                        <a:pt x="2427" y="2269"/>
                      </a:lnTo>
                      <a:lnTo>
                        <a:pt x="2435" y="2265"/>
                      </a:lnTo>
                      <a:lnTo>
                        <a:pt x="2448" y="2270"/>
                      </a:lnTo>
                      <a:lnTo>
                        <a:pt x="2455" y="2282"/>
                      </a:lnTo>
                      <a:lnTo>
                        <a:pt x="2462" y="2295"/>
                      </a:lnTo>
                      <a:lnTo>
                        <a:pt x="2473" y="2305"/>
                      </a:lnTo>
                      <a:lnTo>
                        <a:pt x="2497" y="2312"/>
                      </a:lnTo>
                      <a:lnTo>
                        <a:pt x="2518" y="2305"/>
                      </a:lnTo>
                      <a:lnTo>
                        <a:pt x="2537" y="2285"/>
                      </a:lnTo>
                      <a:lnTo>
                        <a:pt x="2554" y="2264"/>
                      </a:lnTo>
                      <a:lnTo>
                        <a:pt x="2571" y="2246"/>
                      </a:lnTo>
                      <a:lnTo>
                        <a:pt x="2594" y="2235"/>
                      </a:lnTo>
                      <a:lnTo>
                        <a:pt x="2610" y="2239"/>
                      </a:lnTo>
                      <a:lnTo>
                        <a:pt x="2619" y="2254"/>
                      </a:lnTo>
                      <a:lnTo>
                        <a:pt x="2624" y="2274"/>
                      </a:lnTo>
                      <a:lnTo>
                        <a:pt x="2631" y="2290"/>
                      </a:lnTo>
                      <a:lnTo>
                        <a:pt x="2641" y="2302"/>
                      </a:lnTo>
                      <a:lnTo>
                        <a:pt x="2651" y="2313"/>
                      </a:lnTo>
                      <a:lnTo>
                        <a:pt x="2665" y="2340"/>
                      </a:lnTo>
                      <a:lnTo>
                        <a:pt x="2674" y="2370"/>
                      </a:lnTo>
                      <a:lnTo>
                        <a:pt x="2677" y="2385"/>
                      </a:lnTo>
                      <a:lnTo>
                        <a:pt x="2675" y="2401"/>
                      </a:lnTo>
                      <a:lnTo>
                        <a:pt x="2675" y="2417"/>
                      </a:lnTo>
                      <a:lnTo>
                        <a:pt x="2679" y="2430"/>
                      </a:lnTo>
                      <a:lnTo>
                        <a:pt x="2686" y="2433"/>
                      </a:lnTo>
                      <a:lnTo>
                        <a:pt x="2697" y="2433"/>
                      </a:lnTo>
                      <a:lnTo>
                        <a:pt x="2710" y="2432"/>
                      </a:lnTo>
                      <a:lnTo>
                        <a:pt x="2722" y="2432"/>
                      </a:lnTo>
                      <a:lnTo>
                        <a:pt x="2727" y="2421"/>
                      </a:lnTo>
                      <a:lnTo>
                        <a:pt x="2730" y="2410"/>
                      </a:lnTo>
                      <a:lnTo>
                        <a:pt x="2722" y="2397"/>
                      </a:lnTo>
                      <a:lnTo>
                        <a:pt x="2714" y="2386"/>
                      </a:lnTo>
                      <a:lnTo>
                        <a:pt x="2711" y="2367"/>
                      </a:lnTo>
                      <a:lnTo>
                        <a:pt x="2712" y="2351"/>
                      </a:lnTo>
                      <a:lnTo>
                        <a:pt x="2696" y="2308"/>
                      </a:lnTo>
                      <a:lnTo>
                        <a:pt x="2673" y="2266"/>
                      </a:lnTo>
                      <a:lnTo>
                        <a:pt x="2670" y="2256"/>
                      </a:lnTo>
                      <a:lnTo>
                        <a:pt x="2674" y="2247"/>
                      </a:lnTo>
                      <a:lnTo>
                        <a:pt x="2677" y="2239"/>
                      </a:lnTo>
                      <a:lnTo>
                        <a:pt x="2670" y="2231"/>
                      </a:lnTo>
                      <a:lnTo>
                        <a:pt x="2660" y="2226"/>
                      </a:lnTo>
                      <a:lnTo>
                        <a:pt x="2655" y="2221"/>
                      </a:lnTo>
                      <a:lnTo>
                        <a:pt x="2649" y="2183"/>
                      </a:lnTo>
                      <a:lnTo>
                        <a:pt x="2628" y="2153"/>
                      </a:lnTo>
                      <a:lnTo>
                        <a:pt x="2599" y="2127"/>
                      </a:lnTo>
                      <a:lnTo>
                        <a:pt x="2570" y="2100"/>
                      </a:lnTo>
                      <a:lnTo>
                        <a:pt x="2570" y="2093"/>
                      </a:lnTo>
                      <a:lnTo>
                        <a:pt x="2570" y="2088"/>
                      </a:lnTo>
                      <a:lnTo>
                        <a:pt x="2544" y="2078"/>
                      </a:lnTo>
                      <a:lnTo>
                        <a:pt x="2519" y="2068"/>
                      </a:lnTo>
                      <a:lnTo>
                        <a:pt x="2573" y="2019"/>
                      </a:lnTo>
                      <a:lnTo>
                        <a:pt x="2629" y="1968"/>
                      </a:lnTo>
                      <a:lnTo>
                        <a:pt x="2629" y="1956"/>
                      </a:lnTo>
                      <a:lnTo>
                        <a:pt x="2624" y="1943"/>
                      </a:lnTo>
                      <a:lnTo>
                        <a:pt x="2609" y="1917"/>
                      </a:lnTo>
                      <a:lnTo>
                        <a:pt x="2599" y="1889"/>
                      </a:lnTo>
                      <a:lnTo>
                        <a:pt x="2597" y="1881"/>
                      </a:lnTo>
                      <a:lnTo>
                        <a:pt x="2594" y="1874"/>
                      </a:lnTo>
                      <a:lnTo>
                        <a:pt x="2588" y="1866"/>
                      </a:lnTo>
                      <a:lnTo>
                        <a:pt x="2578" y="1866"/>
                      </a:lnTo>
                      <a:lnTo>
                        <a:pt x="2578" y="1873"/>
                      </a:lnTo>
                      <a:lnTo>
                        <a:pt x="2576" y="1874"/>
                      </a:lnTo>
                      <a:lnTo>
                        <a:pt x="2555" y="1856"/>
                      </a:lnTo>
                      <a:lnTo>
                        <a:pt x="2545" y="1830"/>
                      </a:lnTo>
                      <a:lnTo>
                        <a:pt x="2540" y="1805"/>
                      </a:lnTo>
                      <a:lnTo>
                        <a:pt x="2534" y="1780"/>
                      </a:lnTo>
                      <a:lnTo>
                        <a:pt x="2529" y="1762"/>
                      </a:lnTo>
                      <a:lnTo>
                        <a:pt x="2527" y="1743"/>
                      </a:lnTo>
                      <a:lnTo>
                        <a:pt x="2522" y="1723"/>
                      </a:lnTo>
                      <a:lnTo>
                        <a:pt x="2512" y="1703"/>
                      </a:lnTo>
                      <a:lnTo>
                        <a:pt x="2508" y="1690"/>
                      </a:lnTo>
                      <a:lnTo>
                        <a:pt x="2509" y="1675"/>
                      </a:lnTo>
                      <a:lnTo>
                        <a:pt x="2515" y="1662"/>
                      </a:lnTo>
                      <a:lnTo>
                        <a:pt x="2519" y="1647"/>
                      </a:lnTo>
                      <a:lnTo>
                        <a:pt x="2513" y="1646"/>
                      </a:lnTo>
                      <a:lnTo>
                        <a:pt x="2510" y="1642"/>
                      </a:lnTo>
                      <a:lnTo>
                        <a:pt x="2516" y="1595"/>
                      </a:lnTo>
                      <a:lnTo>
                        <a:pt x="2516" y="1553"/>
                      </a:lnTo>
                      <a:lnTo>
                        <a:pt x="2522" y="1539"/>
                      </a:lnTo>
                      <a:lnTo>
                        <a:pt x="2534" y="1524"/>
                      </a:lnTo>
                      <a:lnTo>
                        <a:pt x="2552" y="1511"/>
                      </a:lnTo>
                      <a:lnTo>
                        <a:pt x="2568" y="1497"/>
                      </a:lnTo>
                      <a:lnTo>
                        <a:pt x="2568" y="1487"/>
                      </a:lnTo>
                      <a:lnTo>
                        <a:pt x="2563" y="1476"/>
                      </a:lnTo>
                      <a:lnTo>
                        <a:pt x="2559" y="1453"/>
                      </a:lnTo>
                      <a:lnTo>
                        <a:pt x="2560" y="1437"/>
                      </a:lnTo>
                      <a:lnTo>
                        <a:pt x="2564" y="1426"/>
                      </a:lnTo>
                      <a:lnTo>
                        <a:pt x="2570" y="1419"/>
                      </a:lnTo>
                      <a:lnTo>
                        <a:pt x="2591" y="1406"/>
                      </a:lnTo>
                      <a:lnTo>
                        <a:pt x="2614" y="1389"/>
                      </a:lnTo>
                      <a:lnTo>
                        <a:pt x="2615" y="1386"/>
                      </a:lnTo>
                      <a:lnTo>
                        <a:pt x="2612" y="1383"/>
                      </a:lnTo>
                      <a:lnTo>
                        <a:pt x="2607" y="1381"/>
                      </a:lnTo>
                      <a:lnTo>
                        <a:pt x="2602" y="1378"/>
                      </a:lnTo>
                      <a:lnTo>
                        <a:pt x="2600" y="1358"/>
                      </a:lnTo>
                      <a:lnTo>
                        <a:pt x="2600" y="1343"/>
                      </a:lnTo>
                      <a:lnTo>
                        <a:pt x="2594" y="1333"/>
                      </a:lnTo>
                      <a:lnTo>
                        <a:pt x="2578" y="1325"/>
                      </a:lnTo>
                      <a:lnTo>
                        <a:pt x="2547" y="1318"/>
                      </a:lnTo>
                      <a:lnTo>
                        <a:pt x="2519" y="1317"/>
                      </a:lnTo>
                      <a:lnTo>
                        <a:pt x="2500" y="1325"/>
                      </a:lnTo>
                      <a:lnTo>
                        <a:pt x="2481" y="1333"/>
                      </a:lnTo>
                      <a:lnTo>
                        <a:pt x="2466" y="1337"/>
                      </a:lnTo>
                      <a:lnTo>
                        <a:pt x="2450" y="1338"/>
                      </a:lnTo>
                      <a:lnTo>
                        <a:pt x="2432" y="1338"/>
                      </a:lnTo>
                      <a:lnTo>
                        <a:pt x="2416" y="1343"/>
                      </a:lnTo>
                      <a:lnTo>
                        <a:pt x="2400" y="1343"/>
                      </a:lnTo>
                      <a:lnTo>
                        <a:pt x="2380" y="1342"/>
                      </a:lnTo>
                      <a:lnTo>
                        <a:pt x="2347" y="1351"/>
                      </a:lnTo>
                      <a:lnTo>
                        <a:pt x="2312" y="1353"/>
                      </a:lnTo>
                      <a:lnTo>
                        <a:pt x="2279" y="1350"/>
                      </a:lnTo>
                      <a:lnTo>
                        <a:pt x="2246" y="1338"/>
                      </a:lnTo>
                      <a:lnTo>
                        <a:pt x="2230" y="1338"/>
                      </a:lnTo>
                      <a:lnTo>
                        <a:pt x="2218" y="1346"/>
                      </a:lnTo>
                      <a:lnTo>
                        <a:pt x="2206" y="1357"/>
                      </a:lnTo>
                      <a:lnTo>
                        <a:pt x="2194" y="1366"/>
                      </a:lnTo>
                      <a:lnTo>
                        <a:pt x="2188" y="1369"/>
                      </a:lnTo>
                      <a:lnTo>
                        <a:pt x="2185" y="1366"/>
                      </a:lnTo>
                      <a:lnTo>
                        <a:pt x="2181" y="1361"/>
                      </a:lnTo>
                      <a:lnTo>
                        <a:pt x="2176" y="1356"/>
                      </a:lnTo>
                      <a:lnTo>
                        <a:pt x="2170" y="1355"/>
                      </a:lnTo>
                      <a:lnTo>
                        <a:pt x="2163" y="1359"/>
                      </a:lnTo>
                      <a:lnTo>
                        <a:pt x="2085" y="1268"/>
                      </a:lnTo>
                      <a:lnTo>
                        <a:pt x="2003" y="1177"/>
                      </a:lnTo>
                      <a:lnTo>
                        <a:pt x="1993" y="1174"/>
                      </a:lnTo>
                      <a:lnTo>
                        <a:pt x="1981" y="1181"/>
                      </a:lnTo>
                      <a:lnTo>
                        <a:pt x="1968" y="1187"/>
                      </a:lnTo>
                      <a:lnTo>
                        <a:pt x="1957" y="1187"/>
                      </a:lnTo>
                      <a:lnTo>
                        <a:pt x="1927" y="1169"/>
                      </a:lnTo>
                      <a:lnTo>
                        <a:pt x="1897" y="1157"/>
                      </a:lnTo>
                      <a:lnTo>
                        <a:pt x="1874" y="1151"/>
                      </a:lnTo>
                      <a:lnTo>
                        <a:pt x="1850" y="1152"/>
                      </a:lnTo>
                      <a:lnTo>
                        <a:pt x="1824" y="1159"/>
                      </a:lnTo>
                      <a:lnTo>
                        <a:pt x="1801" y="1174"/>
                      </a:lnTo>
                      <a:lnTo>
                        <a:pt x="1793" y="1176"/>
                      </a:lnTo>
                      <a:lnTo>
                        <a:pt x="1785" y="1172"/>
                      </a:lnTo>
                      <a:lnTo>
                        <a:pt x="1777" y="1167"/>
                      </a:lnTo>
                      <a:lnTo>
                        <a:pt x="1769" y="1164"/>
                      </a:lnTo>
                      <a:lnTo>
                        <a:pt x="1702" y="1161"/>
                      </a:lnTo>
                      <a:lnTo>
                        <a:pt x="1636" y="1159"/>
                      </a:lnTo>
                      <a:lnTo>
                        <a:pt x="1623" y="1162"/>
                      </a:lnTo>
                      <a:lnTo>
                        <a:pt x="1611" y="1164"/>
                      </a:lnTo>
                      <a:lnTo>
                        <a:pt x="1599" y="1164"/>
                      </a:lnTo>
                      <a:lnTo>
                        <a:pt x="1586" y="1161"/>
                      </a:lnTo>
                      <a:lnTo>
                        <a:pt x="1571" y="1147"/>
                      </a:lnTo>
                      <a:lnTo>
                        <a:pt x="1563" y="1130"/>
                      </a:lnTo>
                      <a:lnTo>
                        <a:pt x="1556" y="1113"/>
                      </a:lnTo>
                      <a:lnTo>
                        <a:pt x="1546" y="1096"/>
                      </a:lnTo>
                      <a:lnTo>
                        <a:pt x="1534" y="1088"/>
                      </a:lnTo>
                      <a:lnTo>
                        <a:pt x="1520" y="1082"/>
                      </a:lnTo>
                      <a:lnTo>
                        <a:pt x="1510" y="1082"/>
                      </a:lnTo>
                      <a:lnTo>
                        <a:pt x="1502" y="1083"/>
                      </a:lnTo>
                      <a:lnTo>
                        <a:pt x="1495" y="1082"/>
                      </a:lnTo>
                      <a:lnTo>
                        <a:pt x="1489" y="1075"/>
                      </a:lnTo>
                      <a:lnTo>
                        <a:pt x="1478" y="1042"/>
                      </a:lnTo>
                      <a:lnTo>
                        <a:pt x="1479" y="1005"/>
                      </a:lnTo>
                      <a:lnTo>
                        <a:pt x="1484" y="1000"/>
                      </a:lnTo>
                      <a:lnTo>
                        <a:pt x="1487" y="996"/>
                      </a:lnTo>
                      <a:lnTo>
                        <a:pt x="1490" y="978"/>
                      </a:lnTo>
                      <a:lnTo>
                        <a:pt x="1494" y="964"/>
                      </a:lnTo>
                      <a:lnTo>
                        <a:pt x="1500" y="916"/>
                      </a:lnTo>
                      <a:lnTo>
                        <a:pt x="1494" y="871"/>
                      </a:lnTo>
                      <a:lnTo>
                        <a:pt x="1484" y="853"/>
                      </a:lnTo>
                      <a:lnTo>
                        <a:pt x="1466" y="838"/>
                      </a:lnTo>
                      <a:lnTo>
                        <a:pt x="1450" y="825"/>
                      </a:lnTo>
                      <a:lnTo>
                        <a:pt x="1439" y="806"/>
                      </a:lnTo>
                      <a:lnTo>
                        <a:pt x="1431" y="778"/>
                      </a:lnTo>
                      <a:lnTo>
                        <a:pt x="1424" y="749"/>
                      </a:lnTo>
                      <a:lnTo>
                        <a:pt x="1421" y="735"/>
                      </a:lnTo>
                      <a:lnTo>
                        <a:pt x="1411" y="720"/>
                      </a:lnTo>
                      <a:lnTo>
                        <a:pt x="1398" y="713"/>
                      </a:lnTo>
                      <a:lnTo>
                        <a:pt x="1381" y="722"/>
                      </a:lnTo>
                      <a:lnTo>
                        <a:pt x="1374" y="699"/>
                      </a:lnTo>
                      <a:lnTo>
                        <a:pt x="1366" y="684"/>
                      </a:lnTo>
                      <a:lnTo>
                        <a:pt x="1351" y="684"/>
                      </a:lnTo>
                      <a:lnTo>
                        <a:pt x="1338" y="694"/>
                      </a:lnTo>
                      <a:lnTo>
                        <a:pt x="1321" y="702"/>
                      </a:lnTo>
                      <a:lnTo>
                        <a:pt x="1303" y="703"/>
                      </a:lnTo>
                      <a:lnTo>
                        <a:pt x="1296" y="696"/>
                      </a:lnTo>
                      <a:lnTo>
                        <a:pt x="1299" y="687"/>
                      </a:lnTo>
                      <a:lnTo>
                        <a:pt x="1322" y="654"/>
                      </a:lnTo>
                      <a:lnTo>
                        <a:pt x="1346" y="620"/>
                      </a:lnTo>
                      <a:lnTo>
                        <a:pt x="1363" y="594"/>
                      </a:lnTo>
                      <a:lnTo>
                        <a:pt x="1380" y="564"/>
                      </a:lnTo>
                      <a:lnTo>
                        <a:pt x="1379" y="557"/>
                      </a:lnTo>
                      <a:lnTo>
                        <a:pt x="1374" y="552"/>
                      </a:lnTo>
                      <a:lnTo>
                        <a:pt x="1381" y="507"/>
                      </a:lnTo>
                      <a:lnTo>
                        <a:pt x="1393" y="467"/>
                      </a:lnTo>
                      <a:lnTo>
                        <a:pt x="1421" y="423"/>
                      </a:lnTo>
                      <a:lnTo>
                        <a:pt x="1447" y="380"/>
                      </a:lnTo>
                      <a:lnTo>
                        <a:pt x="1460" y="344"/>
                      </a:lnTo>
                      <a:lnTo>
                        <a:pt x="1474" y="309"/>
                      </a:lnTo>
                      <a:lnTo>
                        <a:pt x="1484" y="296"/>
                      </a:lnTo>
                      <a:lnTo>
                        <a:pt x="1497" y="285"/>
                      </a:lnTo>
                      <a:lnTo>
                        <a:pt x="1510" y="281"/>
                      </a:lnTo>
                      <a:lnTo>
                        <a:pt x="1520" y="281"/>
                      </a:lnTo>
                      <a:lnTo>
                        <a:pt x="1532" y="281"/>
                      </a:lnTo>
                      <a:lnTo>
                        <a:pt x="1539" y="279"/>
                      </a:lnTo>
                      <a:lnTo>
                        <a:pt x="1571" y="232"/>
                      </a:lnTo>
                      <a:lnTo>
                        <a:pt x="1597" y="179"/>
                      </a:lnTo>
                      <a:lnTo>
                        <a:pt x="1608" y="170"/>
                      </a:lnTo>
                      <a:lnTo>
                        <a:pt x="1623" y="165"/>
                      </a:lnTo>
                      <a:lnTo>
                        <a:pt x="1641" y="163"/>
                      </a:lnTo>
                      <a:lnTo>
                        <a:pt x="1659" y="159"/>
                      </a:lnTo>
                      <a:lnTo>
                        <a:pt x="1666" y="156"/>
                      </a:lnTo>
                      <a:lnTo>
                        <a:pt x="1673" y="153"/>
                      </a:lnTo>
                      <a:lnTo>
                        <a:pt x="1688" y="146"/>
                      </a:lnTo>
                      <a:lnTo>
                        <a:pt x="1703" y="144"/>
                      </a:lnTo>
                      <a:lnTo>
                        <a:pt x="1718" y="140"/>
                      </a:lnTo>
                      <a:lnTo>
                        <a:pt x="1733" y="133"/>
                      </a:lnTo>
                      <a:lnTo>
                        <a:pt x="1758" y="113"/>
                      </a:lnTo>
                      <a:lnTo>
                        <a:pt x="1781" y="90"/>
                      </a:lnTo>
                      <a:lnTo>
                        <a:pt x="1785" y="81"/>
                      </a:lnTo>
                      <a:lnTo>
                        <a:pt x="1780" y="69"/>
                      </a:lnTo>
                      <a:lnTo>
                        <a:pt x="1772" y="57"/>
                      </a:lnTo>
                      <a:lnTo>
                        <a:pt x="1768" y="43"/>
                      </a:lnTo>
                      <a:lnTo>
                        <a:pt x="1761" y="33"/>
                      </a:lnTo>
                      <a:lnTo>
                        <a:pt x="1751" y="23"/>
                      </a:lnTo>
                      <a:lnTo>
                        <a:pt x="1727" y="13"/>
                      </a:lnTo>
                      <a:lnTo>
                        <a:pt x="1704" y="3"/>
                      </a:lnTo>
                      <a:lnTo>
                        <a:pt x="1680" y="0"/>
                      </a:lnTo>
                      <a:lnTo>
                        <a:pt x="1654" y="1"/>
                      </a:lnTo>
                      <a:lnTo>
                        <a:pt x="1648" y="11"/>
                      </a:lnTo>
                      <a:lnTo>
                        <a:pt x="1646" y="28"/>
                      </a:lnTo>
                      <a:lnTo>
                        <a:pt x="1636" y="23"/>
                      </a:lnTo>
                      <a:lnTo>
                        <a:pt x="1630" y="18"/>
                      </a:lnTo>
                      <a:lnTo>
                        <a:pt x="1612" y="20"/>
                      </a:lnTo>
                      <a:lnTo>
                        <a:pt x="1604" y="25"/>
                      </a:lnTo>
                      <a:lnTo>
                        <a:pt x="1601" y="30"/>
                      </a:lnTo>
                      <a:lnTo>
                        <a:pt x="1602" y="36"/>
                      </a:lnTo>
                      <a:lnTo>
                        <a:pt x="1607" y="43"/>
                      </a:lnTo>
                      <a:lnTo>
                        <a:pt x="1610" y="48"/>
                      </a:lnTo>
                      <a:lnTo>
                        <a:pt x="1611" y="54"/>
                      </a:lnTo>
                      <a:lnTo>
                        <a:pt x="1606" y="59"/>
                      </a:lnTo>
                      <a:lnTo>
                        <a:pt x="1592" y="46"/>
                      </a:lnTo>
                      <a:lnTo>
                        <a:pt x="1576" y="43"/>
                      </a:lnTo>
                      <a:lnTo>
                        <a:pt x="1561" y="43"/>
                      </a:lnTo>
                      <a:lnTo>
                        <a:pt x="1549" y="43"/>
                      </a:lnTo>
                      <a:lnTo>
                        <a:pt x="1550" y="56"/>
                      </a:lnTo>
                      <a:lnTo>
                        <a:pt x="1555" y="67"/>
                      </a:lnTo>
                      <a:lnTo>
                        <a:pt x="1553" y="90"/>
                      </a:lnTo>
                      <a:lnTo>
                        <a:pt x="1542" y="109"/>
                      </a:lnTo>
                      <a:lnTo>
                        <a:pt x="1523" y="125"/>
                      </a:lnTo>
                      <a:lnTo>
                        <a:pt x="1500" y="135"/>
                      </a:lnTo>
                      <a:lnTo>
                        <a:pt x="1456" y="148"/>
                      </a:lnTo>
                      <a:lnTo>
                        <a:pt x="1416" y="163"/>
                      </a:lnTo>
                      <a:lnTo>
                        <a:pt x="1384" y="186"/>
                      </a:lnTo>
                      <a:lnTo>
                        <a:pt x="1356" y="212"/>
                      </a:lnTo>
                      <a:lnTo>
                        <a:pt x="1325" y="235"/>
                      </a:lnTo>
                      <a:lnTo>
                        <a:pt x="1291" y="253"/>
                      </a:lnTo>
                      <a:lnTo>
                        <a:pt x="1259" y="260"/>
                      </a:lnTo>
                      <a:lnTo>
                        <a:pt x="1224" y="260"/>
                      </a:lnTo>
                      <a:lnTo>
                        <a:pt x="1189" y="252"/>
                      </a:lnTo>
                      <a:lnTo>
                        <a:pt x="1154" y="240"/>
                      </a:lnTo>
                      <a:lnTo>
                        <a:pt x="1128" y="235"/>
                      </a:lnTo>
                      <a:lnTo>
                        <a:pt x="1107" y="243"/>
                      </a:lnTo>
                      <a:lnTo>
                        <a:pt x="1100" y="255"/>
                      </a:lnTo>
                      <a:lnTo>
                        <a:pt x="1097" y="270"/>
                      </a:lnTo>
                      <a:lnTo>
                        <a:pt x="1095" y="284"/>
                      </a:lnTo>
                      <a:lnTo>
                        <a:pt x="1089" y="296"/>
                      </a:lnTo>
                      <a:lnTo>
                        <a:pt x="1077" y="309"/>
                      </a:lnTo>
                      <a:lnTo>
                        <a:pt x="1063" y="312"/>
                      </a:lnTo>
                      <a:lnTo>
                        <a:pt x="1047" y="311"/>
                      </a:lnTo>
                      <a:lnTo>
                        <a:pt x="1029" y="306"/>
                      </a:lnTo>
                      <a:lnTo>
                        <a:pt x="995" y="294"/>
                      </a:lnTo>
                      <a:lnTo>
                        <a:pt x="962" y="291"/>
                      </a:lnTo>
                      <a:lnTo>
                        <a:pt x="945" y="299"/>
                      </a:lnTo>
                      <a:lnTo>
                        <a:pt x="930" y="311"/>
                      </a:lnTo>
                      <a:lnTo>
                        <a:pt x="916" y="325"/>
                      </a:lnTo>
                      <a:lnTo>
                        <a:pt x="900" y="337"/>
                      </a:lnTo>
                      <a:lnTo>
                        <a:pt x="882" y="347"/>
                      </a:lnTo>
                      <a:lnTo>
                        <a:pt x="865" y="358"/>
                      </a:lnTo>
                      <a:lnTo>
                        <a:pt x="864" y="363"/>
                      </a:lnTo>
                      <a:lnTo>
                        <a:pt x="869" y="367"/>
                      </a:lnTo>
                      <a:lnTo>
                        <a:pt x="850" y="376"/>
                      </a:lnTo>
                      <a:lnTo>
                        <a:pt x="830" y="386"/>
                      </a:lnTo>
                      <a:lnTo>
                        <a:pt x="814" y="396"/>
                      </a:lnTo>
                      <a:lnTo>
                        <a:pt x="801" y="413"/>
                      </a:lnTo>
                      <a:lnTo>
                        <a:pt x="798" y="423"/>
                      </a:lnTo>
                      <a:lnTo>
                        <a:pt x="803" y="431"/>
                      </a:lnTo>
                      <a:lnTo>
                        <a:pt x="809" y="438"/>
                      </a:lnTo>
                      <a:lnTo>
                        <a:pt x="811" y="447"/>
                      </a:lnTo>
                      <a:lnTo>
                        <a:pt x="807" y="452"/>
                      </a:lnTo>
                      <a:lnTo>
                        <a:pt x="798" y="457"/>
                      </a:lnTo>
                      <a:lnTo>
                        <a:pt x="791" y="459"/>
                      </a:lnTo>
                      <a:lnTo>
                        <a:pt x="787" y="462"/>
                      </a:lnTo>
                      <a:lnTo>
                        <a:pt x="780" y="470"/>
                      </a:lnTo>
                      <a:lnTo>
                        <a:pt x="773" y="479"/>
                      </a:lnTo>
                      <a:lnTo>
                        <a:pt x="769" y="487"/>
                      </a:lnTo>
                      <a:lnTo>
                        <a:pt x="773" y="496"/>
                      </a:lnTo>
                      <a:lnTo>
                        <a:pt x="777" y="495"/>
                      </a:lnTo>
                      <a:lnTo>
                        <a:pt x="783" y="490"/>
                      </a:lnTo>
                      <a:lnTo>
                        <a:pt x="791" y="482"/>
                      </a:lnTo>
                      <a:lnTo>
                        <a:pt x="796" y="479"/>
                      </a:lnTo>
                      <a:lnTo>
                        <a:pt x="804" y="479"/>
                      </a:lnTo>
                      <a:lnTo>
                        <a:pt x="809" y="483"/>
                      </a:lnTo>
                      <a:lnTo>
                        <a:pt x="803" y="493"/>
                      </a:lnTo>
                      <a:lnTo>
                        <a:pt x="796" y="502"/>
                      </a:lnTo>
                      <a:lnTo>
                        <a:pt x="806" y="510"/>
                      </a:lnTo>
                      <a:lnTo>
                        <a:pt x="819" y="515"/>
                      </a:lnTo>
                      <a:lnTo>
                        <a:pt x="800" y="529"/>
                      </a:lnTo>
                      <a:lnTo>
                        <a:pt x="788" y="547"/>
                      </a:lnTo>
                      <a:lnTo>
                        <a:pt x="785" y="567"/>
                      </a:lnTo>
                      <a:lnTo>
                        <a:pt x="778" y="584"/>
                      </a:lnTo>
                      <a:lnTo>
                        <a:pt x="788" y="592"/>
                      </a:lnTo>
                      <a:lnTo>
                        <a:pt x="792" y="602"/>
                      </a:lnTo>
                      <a:lnTo>
                        <a:pt x="792" y="613"/>
                      </a:lnTo>
                      <a:lnTo>
                        <a:pt x="788" y="628"/>
                      </a:lnTo>
                      <a:lnTo>
                        <a:pt x="777" y="644"/>
                      </a:lnTo>
                      <a:lnTo>
                        <a:pt x="757" y="654"/>
                      </a:lnTo>
                      <a:lnTo>
                        <a:pt x="746" y="650"/>
                      </a:lnTo>
                      <a:lnTo>
                        <a:pt x="735" y="646"/>
                      </a:lnTo>
                      <a:lnTo>
                        <a:pt x="705" y="654"/>
                      </a:lnTo>
                      <a:lnTo>
                        <a:pt x="681" y="666"/>
                      </a:lnTo>
                      <a:lnTo>
                        <a:pt x="663" y="686"/>
                      </a:lnTo>
                      <a:lnTo>
                        <a:pt x="654" y="713"/>
                      </a:lnTo>
                      <a:lnTo>
                        <a:pt x="650" y="720"/>
                      </a:lnTo>
                      <a:lnTo>
                        <a:pt x="641" y="722"/>
                      </a:lnTo>
                      <a:lnTo>
                        <a:pt x="642" y="730"/>
                      </a:lnTo>
                      <a:lnTo>
                        <a:pt x="640" y="735"/>
                      </a:lnTo>
                      <a:lnTo>
                        <a:pt x="610" y="760"/>
                      </a:lnTo>
                      <a:lnTo>
                        <a:pt x="583" y="784"/>
                      </a:lnTo>
                      <a:lnTo>
                        <a:pt x="553" y="802"/>
                      </a:lnTo>
                      <a:lnTo>
                        <a:pt x="515" y="812"/>
                      </a:lnTo>
                      <a:lnTo>
                        <a:pt x="507" y="812"/>
                      </a:lnTo>
                      <a:lnTo>
                        <a:pt x="498" y="816"/>
                      </a:lnTo>
                      <a:lnTo>
                        <a:pt x="495" y="825"/>
                      </a:lnTo>
                      <a:lnTo>
                        <a:pt x="489" y="830"/>
                      </a:lnTo>
                      <a:lnTo>
                        <a:pt x="489" y="835"/>
                      </a:lnTo>
                      <a:lnTo>
                        <a:pt x="489" y="837"/>
                      </a:lnTo>
                      <a:lnTo>
                        <a:pt x="519" y="860"/>
                      </a:lnTo>
                      <a:lnTo>
                        <a:pt x="529" y="893"/>
                      </a:lnTo>
                      <a:lnTo>
                        <a:pt x="528" y="932"/>
                      </a:lnTo>
                      <a:lnTo>
                        <a:pt x="523" y="968"/>
                      </a:lnTo>
                      <a:lnTo>
                        <a:pt x="515" y="973"/>
                      </a:lnTo>
                      <a:lnTo>
                        <a:pt x="501" y="971"/>
                      </a:lnTo>
                      <a:lnTo>
                        <a:pt x="488" y="966"/>
                      </a:lnTo>
                      <a:lnTo>
                        <a:pt x="487" y="957"/>
                      </a:lnTo>
                      <a:lnTo>
                        <a:pt x="497" y="947"/>
                      </a:lnTo>
                      <a:lnTo>
                        <a:pt x="505" y="939"/>
                      </a:lnTo>
                      <a:lnTo>
                        <a:pt x="510" y="932"/>
                      </a:lnTo>
                      <a:lnTo>
                        <a:pt x="507" y="921"/>
                      </a:lnTo>
                      <a:lnTo>
                        <a:pt x="498" y="921"/>
                      </a:lnTo>
                      <a:lnTo>
                        <a:pt x="489" y="922"/>
                      </a:lnTo>
                      <a:lnTo>
                        <a:pt x="482" y="911"/>
                      </a:lnTo>
                      <a:lnTo>
                        <a:pt x="478" y="899"/>
                      </a:lnTo>
                      <a:lnTo>
                        <a:pt x="458" y="876"/>
                      </a:lnTo>
                      <a:lnTo>
                        <a:pt x="440" y="853"/>
                      </a:lnTo>
                      <a:lnTo>
                        <a:pt x="433" y="850"/>
                      </a:lnTo>
                      <a:lnTo>
                        <a:pt x="426" y="846"/>
                      </a:lnTo>
                      <a:lnTo>
                        <a:pt x="413" y="833"/>
                      </a:lnTo>
                      <a:lnTo>
                        <a:pt x="405" y="816"/>
                      </a:lnTo>
                      <a:lnTo>
                        <a:pt x="398" y="814"/>
                      </a:lnTo>
                      <a:lnTo>
                        <a:pt x="392" y="812"/>
                      </a:lnTo>
                      <a:lnTo>
                        <a:pt x="377" y="832"/>
                      </a:lnTo>
                      <a:lnTo>
                        <a:pt x="379" y="856"/>
                      </a:lnTo>
                      <a:lnTo>
                        <a:pt x="390" y="881"/>
                      </a:lnTo>
                      <a:lnTo>
                        <a:pt x="401" y="903"/>
                      </a:lnTo>
                      <a:lnTo>
                        <a:pt x="413" y="932"/>
                      </a:lnTo>
                      <a:lnTo>
                        <a:pt x="427" y="962"/>
                      </a:lnTo>
                      <a:lnTo>
                        <a:pt x="427" y="966"/>
                      </a:lnTo>
                      <a:lnTo>
                        <a:pt x="421" y="968"/>
                      </a:lnTo>
                      <a:lnTo>
                        <a:pt x="413" y="971"/>
                      </a:lnTo>
                      <a:lnTo>
                        <a:pt x="406" y="973"/>
                      </a:lnTo>
                      <a:lnTo>
                        <a:pt x="388" y="992"/>
                      </a:lnTo>
                      <a:lnTo>
                        <a:pt x="374" y="1014"/>
                      </a:lnTo>
                      <a:lnTo>
                        <a:pt x="359" y="1033"/>
                      </a:lnTo>
                      <a:lnTo>
                        <a:pt x="336" y="1038"/>
                      </a:lnTo>
                      <a:lnTo>
                        <a:pt x="330" y="1034"/>
                      </a:lnTo>
                      <a:lnTo>
                        <a:pt x="323" y="1027"/>
                      </a:lnTo>
                      <a:lnTo>
                        <a:pt x="317" y="1021"/>
                      </a:lnTo>
                      <a:lnTo>
                        <a:pt x="311" y="1021"/>
                      </a:lnTo>
                      <a:lnTo>
                        <a:pt x="306" y="1029"/>
                      </a:lnTo>
                      <a:lnTo>
                        <a:pt x="306" y="1043"/>
                      </a:lnTo>
                      <a:lnTo>
                        <a:pt x="308" y="1055"/>
                      </a:lnTo>
                      <a:lnTo>
                        <a:pt x="306" y="1065"/>
                      </a:lnTo>
                      <a:lnTo>
                        <a:pt x="299" y="1068"/>
                      </a:lnTo>
                      <a:lnTo>
                        <a:pt x="293" y="1065"/>
                      </a:lnTo>
                      <a:lnTo>
                        <a:pt x="288" y="1064"/>
                      </a:lnTo>
                      <a:lnTo>
                        <a:pt x="283" y="1067"/>
                      </a:lnTo>
                      <a:lnTo>
                        <a:pt x="280" y="1077"/>
                      </a:lnTo>
                      <a:lnTo>
                        <a:pt x="275" y="1090"/>
                      </a:lnTo>
                      <a:lnTo>
                        <a:pt x="270" y="1103"/>
                      </a:lnTo>
                      <a:lnTo>
                        <a:pt x="264" y="1110"/>
                      </a:lnTo>
                      <a:lnTo>
                        <a:pt x="266" y="1123"/>
                      </a:lnTo>
                      <a:lnTo>
                        <a:pt x="280" y="1135"/>
                      </a:lnTo>
                      <a:lnTo>
                        <a:pt x="299" y="1149"/>
                      </a:lnTo>
                      <a:lnTo>
                        <a:pt x="319" y="1164"/>
                      </a:lnTo>
                      <a:lnTo>
                        <a:pt x="317" y="1172"/>
                      </a:lnTo>
                      <a:lnTo>
                        <a:pt x="311" y="1187"/>
                      </a:lnTo>
                      <a:lnTo>
                        <a:pt x="304" y="1199"/>
                      </a:lnTo>
                      <a:lnTo>
                        <a:pt x="303" y="1204"/>
                      </a:lnTo>
                      <a:lnTo>
                        <a:pt x="319" y="1204"/>
                      </a:lnTo>
                      <a:lnTo>
                        <a:pt x="331" y="1217"/>
                      </a:lnTo>
                      <a:lnTo>
                        <a:pt x="340" y="1235"/>
                      </a:lnTo>
                      <a:lnTo>
                        <a:pt x="349" y="1250"/>
                      </a:lnTo>
                      <a:lnTo>
                        <a:pt x="354" y="1248"/>
                      </a:lnTo>
                      <a:lnTo>
                        <a:pt x="359" y="1243"/>
                      </a:lnTo>
                      <a:lnTo>
                        <a:pt x="361" y="1236"/>
                      </a:lnTo>
                      <a:lnTo>
                        <a:pt x="364" y="1234"/>
                      </a:lnTo>
                      <a:lnTo>
                        <a:pt x="369" y="1234"/>
                      </a:lnTo>
                      <a:lnTo>
                        <a:pt x="373" y="1238"/>
                      </a:lnTo>
                      <a:lnTo>
                        <a:pt x="375" y="1245"/>
                      </a:lnTo>
                      <a:lnTo>
                        <a:pt x="382" y="1254"/>
                      </a:lnTo>
                      <a:lnTo>
                        <a:pt x="388" y="1261"/>
                      </a:lnTo>
                      <a:lnTo>
                        <a:pt x="390" y="1268"/>
                      </a:lnTo>
                      <a:lnTo>
                        <a:pt x="385" y="1300"/>
                      </a:lnTo>
                      <a:lnTo>
                        <a:pt x="378" y="1323"/>
                      </a:lnTo>
                      <a:lnTo>
                        <a:pt x="371" y="1325"/>
                      </a:lnTo>
                      <a:lnTo>
                        <a:pt x="361" y="1320"/>
                      </a:lnTo>
                      <a:lnTo>
                        <a:pt x="354" y="1315"/>
                      </a:lnTo>
                      <a:lnTo>
                        <a:pt x="350" y="1318"/>
                      </a:lnTo>
                      <a:lnTo>
                        <a:pt x="358" y="1338"/>
                      </a:lnTo>
                      <a:lnTo>
                        <a:pt x="373" y="1358"/>
                      </a:lnTo>
                      <a:lnTo>
                        <a:pt x="387" y="1381"/>
                      </a:lnTo>
                      <a:lnTo>
                        <a:pt x="392" y="1412"/>
                      </a:lnTo>
                      <a:lnTo>
                        <a:pt x="398" y="1417"/>
                      </a:lnTo>
                      <a:lnTo>
                        <a:pt x="405" y="1422"/>
                      </a:lnTo>
                      <a:lnTo>
                        <a:pt x="406" y="1430"/>
                      </a:lnTo>
                      <a:lnTo>
                        <a:pt x="405" y="1435"/>
                      </a:lnTo>
                      <a:lnTo>
                        <a:pt x="393" y="1450"/>
                      </a:lnTo>
                      <a:lnTo>
                        <a:pt x="382" y="1460"/>
                      </a:lnTo>
                      <a:lnTo>
                        <a:pt x="364" y="1462"/>
                      </a:lnTo>
                      <a:lnTo>
                        <a:pt x="346" y="1462"/>
                      </a:lnTo>
                      <a:lnTo>
                        <a:pt x="346" y="1472"/>
                      </a:lnTo>
                      <a:lnTo>
                        <a:pt x="343" y="1481"/>
                      </a:lnTo>
                      <a:lnTo>
                        <a:pt x="343" y="1490"/>
                      </a:lnTo>
                      <a:lnTo>
                        <a:pt x="346" y="1498"/>
                      </a:lnTo>
                      <a:lnTo>
                        <a:pt x="351" y="1498"/>
                      </a:lnTo>
                      <a:lnTo>
                        <a:pt x="355" y="1494"/>
                      </a:lnTo>
                      <a:lnTo>
                        <a:pt x="361" y="1493"/>
                      </a:lnTo>
                      <a:lnTo>
                        <a:pt x="369" y="1494"/>
                      </a:lnTo>
                      <a:lnTo>
                        <a:pt x="366" y="1508"/>
                      </a:lnTo>
                      <a:lnTo>
                        <a:pt x="364" y="1519"/>
                      </a:lnTo>
                      <a:lnTo>
                        <a:pt x="372" y="1523"/>
                      </a:lnTo>
                      <a:lnTo>
                        <a:pt x="377" y="1527"/>
                      </a:lnTo>
                      <a:lnTo>
                        <a:pt x="374" y="1537"/>
                      </a:lnTo>
                      <a:lnTo>
                        <a:pt x="378" y="1548"/>
                      </a:lnTo>
                      <a:lnTo>
                        <a:pt x="377" y="1552"/>
                      </a:lnTo>
                      <a:lnTo>
                        <a:pt x="373" y="1555"/>
                      </a:lnTo>
                      <a:lnTo>
                        <a:pt x="369" y="1560"/>
                      </a:lnTo>
                      <a:lnTo>
                        <a:pt x="368" y="1567"/>
                      </a:lnTo>
                      <a:lnTo>
                        <a:pt x="369" y="1568"/>
                      </a:lnTo>
                      <a:lnTo>
                        <a:pt x="372" y="1569"/>
                      </a:lnTo>
                      <a:lnTo>
                        <a:pt x="372" y="1573"/>
                      </a:lnTo>
                      <a:lnTo>
                        <a:pt x="373" y="1575"/>
                      </a:lnTo>
                      <a:lnTo>
                        <a:pt x="380" y="1578"/>
                      </a:lnTo>
                      <a:lnTo>
                        <a:pt x="388" y="1574"/>
                      </a:lnTo>
                      <a:lnTo>
                        <a:pt x="385" y="1581"/>
                      </a:lnTo>
                      <a:lnTo>
                        <a:pt x="377" y="1586"/>
                      </a:lnTo>
                      <a:lnTo>
                        <a:pt x="372" y="1596"/>
                      </a:lnTo>
                      <a:lnTo>
                        <a:pt x="373" y="1610"/>
                      </a:lnTo>
                      <a:lnTo>
                        <a:pt x="374" y="1611"/>
                      </a:lnTo>
                      <a:lnTo>
                        <a:pt x="377" y="1611"/>
                      </a:lnTo>
                      <a:lnTo>
                        <a:pt x="379" y="1623"/>
                      </a:lnTo>
                      <a:lnTo>
                        <a:pt x="388" y="1632"/>
                      </a:lnTo>
                      <a:lnTo>
                        <a:pt x="385" y="1633"/>
                      </a:lnTo>
                      <a:lnTo>
                        <a:pt x="385" y="1636"/>
                      </a:lnTo>
                      <a:lnTo>
                        <a:pt x="390" y="1638"/>
                      </a:lnTo>
                      <a:lnTo>
                        <a:pt x="392" y="1638"/>
                      </a:lnTo>
                      <a:lnTo>
                        <a:pt x="395" y="1646"/>
                      </a:lnTo>
                      <a:lnTo>
                        <a:pt x="395" y="1656"/>
                      </a:lnTo>
                      <a:lnTo>
                        <a:pt x="395" y="1664"/>
                      </a:lnTo>
                      <a:lnTo>
                        <a:pt x="392" y="1664"/>
                      </a:lnTo>
                      <a:lnTo>
                        <a:pt x="385" y="1659"/>
                      </a:lnTo>
                      <a:lnTo>
                        <a:pt x="380" y="1661"/>
                      </a:lnTo>
                      <a:lnTo>
                        <a:pt x="379" y="1668"/>
                      </a:lnTo>
                      <a:lnTo>
                        <a:pt x="380" y="1679"/>
                      </a:lnTo>
                      <a:lnTo>
                        <a:pt x="382" y="1708"/>
                      </a:lnTo>
                      <a:lnTo>
                        <a:pt x="377" y="1730"/>
                      </a:lnTo>
                      <a:lnTo>
                        <a:pt x="361" y="1743"/>
                      </a:lnTo>
                      <a:lnTo>
                        <a:pt x="343" y="1751"/>
                      </a:lnTo>
                      <a:lnTo>
                        <a:pt x="338" y="1764"/>
                      </a:lnTo>
                      <a:lnTo>
                        <a:pt x="343" y="1775"/>
                      </a:lnTo>
                      <a:lnTo>
                        <a:pt x="355" y="1776"/>
                      </a:lnTo>
                      <a:lnTo>
                        <a:pt x="369" y="1774"/>
                      </a:lnTo>
                      <a:lnTo>
                        <a:pt x="363" y="1782"/>
                      </a:lnTo>
                      <a:lnTo>
                        <a:pt x="359" y="1791"/>
                      </a:lnTo>
                      <a:lnTo>
                        <a:pt x="361" y="1791"/>
                      </a:lnTo>
                      <a:lnTo>
                        <a:pt x="363" y="1791"/>
                      </a:lnTo>
                      <a:lnTo>
                        <a:pt x="359" y="1798"/>
                      </a:lnTo>
                      <a:lnTo>
                        <a:pt x="354" y="1805"/>
                      </a:lnTo>
                      <a:lnTo>
                        <a:pt x="354" y="1807"/>
                      </a:lnTo>
                      <a:lnTo>
                        <a:pt x="356" y="1810"/>
                      </a:lnTo>
                      <a:lnTo>
                        <a:pt x="361" y="1810"/>
                      </a:lnTo>
                      <a:lnTo>
                        <a:pt x="368" y="1807"/>
                      </a:lnTo>
                      <a:lnTo>
                        <a:pt x="368" y="1812"/>
                      </a:lnTo>
                      <a:lnTo>
                        <a:pt x="368" y="1818"/>
                      </a:lnTo>
                      <a:lnTo>
                        <a:pt x="385" y="1815"/>
                      </a:lnTo>
                      <a:lnTo>
                        <a:pt x="393" y="1800"/>
                      </a:lnTo>
                      <a:lnTo>
                        <a:pt x="401" y="1805"/>
                      </a:lnTo>
                      <a:lnTo>
                        <a:pt x="403" y="1810"/>
                      </a:lnTo>
                      <a:lnTo>
                        <a:pt x="391" y="1820"/>
                      </a:lnTo>
                      <a:lnTo>
                        <a:pt x="382" y="1830"/>
                      </a:lnTo>
                      <a:lnTo>
                        <a:pt x="382" y="1838"/>
                      </a:lnTo>
                      <a:lnTo>
                        <a:pt x="385" y="1846"/>
                      </a:lnTo>
                      <a:lnTo>
                        <a:pt x="390" y="1851"/>
                      </a:lnTo>
                      <a:lnTo>
                        <a:pt x="398" y="1854"/>
                      </a:lnTo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900000" y="2276640"/>
                  <a:ext cx="2971800" cy="4038480"/>
                </a:xfrm>
                <a:custGeom>
                  <a:avLst/>
                  <a:gdLst/>
                  <a:ahLst/>
                  <a:rect l="l" t="t" r="r" b="b"/>
                  <a:pathLst>
                    <a:path w="2736" h="3600">
                      <a:moveTo>
                        <a:pt x="398" y="1856"/>
                      </a:moveTo>
                      <a:lnTo>
                        <a:pt x="404" y="1856"/>
                      </a:lnTo>
                      <a:lnTo>
                        <a:pt x="412" y="1850"/>
                      </a:lnTo>
                      <a:lnTo>
                        <a:pt x="420" y="1847"/>
                      </a:lnTo>
                      <a:lnTo>
                        <a:pt x="430" y="1851"/>
                      </a:lnTo>
                      <a:lnTo>
                        <a:pt x="419" y="1861"/>
                      </a:lnTo>
                      <a:lnTo>
                        <a:pt x="417" y="1873"/>
                      </a:lnTo>
                      <a:lnTo>
                        <a:pt x="416" y="1886"/>
                      </a:lnTo>
                      <a:lnTo>
                        <a:pt x="409" y="1899"/>
                      </a:lnTo>
                      <a:lnTo>
                        <a:pt x="399" y="1901"/>
                      </a:lnTo>
                      <a:lnTo>
                        <a:pt x="389" y="1906"/>
                      </a:lnTo>
                      <a:lnTo>
                        <a:pt x="384" y="1914"/>
                      </a:lnTo>
                      <a:lnTo>
                        <a:pt x="383" y="1924"/>
                      </a:lnTo>
                      <a:lnTo>
                        <a:pt x="383" y="1934"/>
                      </a:lnTo>
                      <a:lnTo>
                        <a:pt x="378" y="1939"/>
                      </a:lnTo>
                      <a:lnTo>
                        <a:pt x="357" y="1956"/>
                      </a:lnTo>
                      <a:lnTo>
                        <a:pt x="337" y="1972"/>
                      </a:lnTo>
                      <a:lnTo>
                        <a:pt x="342" y="1976"/>
                      </a:lnTo>
                      <a:lnTo>
                        <a:pt x="342" y="1981"/>
                      </a:lnTo>
                      <a:lnTo>
                        <a:pt x="321" y="2000"/>
                      </a:lnTo>
                      <a:lnTo>
                        <a:pt x="302" y="2019"/>
                      </a:lnTo>
                      <a:lnTo>
                        <a:pt x="300" y="2041"/>
                      </a:lnTo>
                      <a:lnTo>
                        <a:pt x="297" y="2060"/>
                      </a:lnTo>
                      <a:lnTo>
                        <a:pt x="281" y="2079"/>
                      </a:lnTo>
                      <a:lnTo>
                        <a:pt x="258" y="2085"/>
                      </a:lnTo>
                      <a:lnTo>
                        <a:pt x="248" y="2088"/>
                      </a:lnTo>
                      <a:lnTo>
                        <a:pt x="240" y="2094"/>
                      </a:lnTo>
                      <a:lnTo>
                        <a:pt x="234" y="2099"/>
                      </a:lnTo>
                      <a:lnTo>
                        <a:pt x="225" y="2099"/>
                      </a:lnTo>
                      <a:lnTo>
                        <a:pt x="227" y="2107"/>
                      </a:lnTo>
                      <a:lnTo>
                        <a:pt x="227" y="2118"/>
                      </a:lnTo>
                      <a:lnTo>
                        <a:pt x="221" y="2120"/>
                      </a:lnTo>
                      <a:lnTo>
                        <a:pt x="216" y="2118"/>
                      </a:lnTo>
                      <a:lnTo>
                        <a:pt x="209" y="2111"/>
                      </a:lnTo>
                      <a:lnTo>
                        <a:pt x="203" y="2103"/>
                      </a:lnTo>
                      <a:lnTo>
                        <a:pt x="195" y="2099"/>
                      </a:lnTo>
                      <a:lnTo>
                        <a:pt x="190" y="2103"/>
                      </a:lnTo>
                      <a:lnTo>
                        <a:pt x="178" y="2113"/>
                      </a:lnTo>
                      <a:lnTo>
                        <a:pt x="165" y="2123"/>
                      </a:lnTo>
                      <a:lnTo>
                        <a:pt x="162" y="2128"/>
                      </a:lnTo>
                      <a:lnTo>
                        <a:pt x="162" y="2135"/>
                      </a:lnTo>
                      <a:lnTo>
                        <a:pt x="157" y="2138"/>
                      </a:lnTo>
                      <a:lnTo>
                        <a:pt x="156" y="2140"/>
                      </a:lnTo>
                      <a:lnTo>
                        <a:pt x="151" y="2131"/>
                      </a:lnTo>
                      <a:lnTo>
                        <a:pt x="144" y="2125"/>
                      </a:lnTo>
                      <a:lnTo>
                        <a:pt x="138" y="2121"/>
                      </a:lnTo>
                      <a:lnTo>
                        <a:pt x="130" y="2125"/>
                      </a:lnTo>
                      <a:lnTo>
                        <a:pt x="110" y="2140"/>
                      </a:lnTo>
                      <a:lnTo>
                        <a:pt x="94" y="2156"/>
                      </a:lnTo>
                      <a:lnTo>
                        <a:pt x="88" y="2174"/>
                      </a:lnTo>
                      <a:lnTo>
                        <a:pt x="79" y="2189"/>
                      </a:lnTo>
                      <a:lnTo>
                        <a:pt x="82" y="2197"/>
                      </a:lnTo>
                      <a:lnTo>
                        <a:pt x="92" y="2202"/>
                      </a:lnTo>
                      <a:lnTo>
                        <a:pt x="94" y="2204"/>
                      </a:lnTo>
                      <a:lnTo>
                        <a:pt x="89" y="2209"/>
                      </a:lnTo>
                      <a:lnTo>
                        <a:pt x="88" y="2209"/>
                      </a:lnTo>
                      <a:lnTo>
                        <a:pt x="86" y="2209"/>
                      </a:lnTo>
                      <a:lnTo>
                        <a:pt x="81" y="2217"/>
                      </a:lnTo>
                      <a:lnTo>
                        <a:pt x="79" y="2224"/>
                      </a:lnTo>
                      <a:lnTo>
                        <a:pt x="81" y="2234"/>
                      </a:lnTo>
                      <a:lnTo>
                        <a:pt x="83" y="2240"/>
                      </a:lnTo>
                      <a:lnTo>
                        <a:pt x="92" y="2242"/>
                      </a:lnTo>
                      <a:lnTo>
                        <a:pt x="100" y="2237"/>
                      </a:lnTo>
                      <a:lnTo>
                        <a:pt x="100" y="2247"/>
                      </a:lnTo>
                      <a:lnTo>
                        <a:pt x="94" y="2255"/>
                      </a:lnTo>
                      <a:lnTo>
                        <a:pt x="94" y="2260"/>
                      </a:lnTo>
                      <a:lnTo>
                        <a:pt x="99" y="2263"/>
                      </a:lnTo>
                      <a:lnTo>
                        <a:pt x="104" y="2265"/>
                      </a:lnTo>
                      <a:lnTo>
                        <a:pt x="107" y="2268"/>
                      </a:lnTo>
                      <a:lnTo>
                        <a:pt x="107" y="2275"/>
                      </a:lnTo>
                      <a:lnTo>
                        <a:pt x="109" y="2283"/>
                      </a:lnTo>
                      <a:lnTo>
                        <a:pt x="106" y="2288"/>
                      </a:lnTo>
                      <a:lnTo>
                        <a:pt x="100" y="2288"/>
                      </a:lnTo>
                      <a:lnTo>
                        <a:pt x="84" y="2283"/>
                      </a:lnTo>
                      <a:lnTo>
                        <a:pt x="70" y="2284"/>
                      </a:lnTo>
                      <a:lnTo>
                        <a:pt x="52" y="2286"/>
                      </a:lnTo>
                      <a:lnTo>
                        <a:pt x="36" y="2288"/>
                      </a:lnTo>
                      <a:lnTo>
                        <a:pt x="23" y="2295"/>
                      </a:lnTo>
                      <a:lnTo>
                        <a:pt x="13" y="2305"/>
                      </a:lnTo>
                      <a:lnTo>
                        <a:pt x="5" y="2316"/>
                      </a:lnTo>
                      <a:lnTo>
                        <a:pt x="0" y="2329"/>
                      </a:lnTo>
                      <a:lnTo>
                        <a:pt x="0" y="2335"/>
                      </a:lnTo>
                      <a:lnTo>
                        <a:pt x="3" y="2340"/>
                      </a:lnTo>
                      <a:lnTo>
                        <a:pt x="1" y="2339"/>
                      </a:lnTo>
                      <a:lnTo>
                        <a:pt x="0" y="2336"/>
                      </a:lnTo>
                      <a:lnTo>
                        <a:pt x="11" y="2345"/>
                      </a:lnTo>
                      <a:lnTo>
                        <a:pt x="26" y="2351"/>
                      </a:lnTo>
                      <a:lnTo>
                        <a:pt x="42" y="2368"/>
                      </a:lnTo>
                      <a:lnTo>
                        <a:pt x="60" y="2385"/>
                      </a:lnTo>
                      <a:lnTo>
                        <a:pt x="89" y="2410"/>
                      </a:lnTo>
                      <a:lnTo>
                        <a:pt x="123" y="2428"/>
                      </a:lnTo>
                      <a:lnTo>
                        <a:pt x="137" y="2438"/>
                      </a:lnTo>
                      <a:lnTo>
                        <a:pt x="147" y="2453"/>
                      </a:lnTo>
                      <a:lnTo>
                        <a:pt x="159" y="2456"/>
                      </a:lnTo>
                      <a:lnTo>
                        <a:pt x="167" y="2461"/>
                      </a:lnTo>
                      <a:lnTo>
                        <a:pt x="198" y="2480"/>
                      </a:lnTo>
                      <a:lnTo>
                        <a:pt x="227" y="2500"/>
                      </a:lnTo>
                      <a:lnTo>
                        <a:pt x="234" y="2505"/>
                      </a:lnTo>
                      <a:lnTo>
                        <a:pt x="240" y="2512"/>
                      </a:lnTo>
                      <a:lnTo>
                        <a:pt x="250" y="2514"/>
                      </a:lnTo>
                      <a:lnTo>
                        <a:pt x="258" y="2510"/>
                      </a:lnTo>
                      <a:lnTo>
                        <a:pt x="274" y="2504"/>
                      </a:lnTo>
                      <a:lnTo>
                        <a:pt x="290" y="2500"/>
                      </a:lnTo>
                      <a:lnTo>
                        <a:pt x="300" y="2497"/>
                      </a:lnTo>
                      <a:lnTo>
                        <a:pt x="308" y="2502"/>
                      </a:lnTo>
                      <a:lnTo>
                        <a:pt x="312" y="2520"/>
                      </a:lnTo>
                      <a:lnTo>
                        <a:pt x="323" y="2532"/>
                      </a:lnTo>
                      <a:lnTo>
                        <a:pt x="333" y="2543"/>
                      </a:lnTo>
                      <a:lnTo>
                        <a:pt x="342" y="2555"/>
                      </a:lnTo>
                      <a:lnTo>
                        <a:pt x="353" y="2581"/>
                      </a:lnTo>
                      <a:lnTo>
                        <a:pt x="370" y="2607"/>
                      </a:lnTo>
                      <a:lnTo>
                        <a:pt x="373" y="2602"/>
                      </a:lnTo>
                      <a:lnTo>
                        <a:pt x="379" y="2598"/>
                      </a:lnTo>
                      <a:lnTo>
                        <a:pt x="389" y="2599"/>
                      </a:lnTo>
                      <a:lnTo>
                        <a:pt x="398" y="2606"/>
                      </a:lnTo>
                      <a:lnTo>
                        <a:pt x="409" y="2607"/>
                      </a:lnTo>
                      <a:lnTo>
                        <a:pt x="421" y="2604"/>
                      </a:lnTo>
                      <a:lnTo>
                        <a:pt x="434" y="2604"/>
                      </a:lnTo>
                      <a:lnTo>
                        <a:pt x="446" y="2614"/>
                      </a:lnTo>
                      <a:lnTo>
                        <a:pt x="452" y="2616"/>
                      </a:lnTo>
                      <a:lnTo>
                        <a:pt x="461" y="2617"/>
                      </a:lnTo>
                      <a:lnTo>
                        <a:pt x="472" y="2625"/>
                      </a:lnTo>
                      <a:lnTo>
                        <a:pt x="484" y="2628"/>
                      </a:lnTo>
                      <a:lnTo>
                        <a:pt x="495" y="2629"/>
                      </a:lnTo>
                      <a:lnTo>
                        <a:pt x="508" y="2632"/>
                      </a:lnTo>
                      <a:lnTo>
                        <a:pt x="514" y="2633"/>
                      </a:lnTo>
                      <a:lnTo>
                        <a:pt x="517" y="2629"/>
                      </a:lnTo>
                      <a:lnTo>
                        <a:pt x="519" y="2623"/>
                      </a:lnTo>
                      <a:lnTo>
                        <a:pt x="522" y="2621"/>
                      </a:lnTo>
                      <a:lnTo>
                        <a:pt x="537" y="2624"/>
                      </a:lnTo>
                      <a:lnTo>
                        <a:pt x="547" y="2632"/>
                      </a:lnTo>
                      <a:lnTo>
                        <a:pt x="569" y="2634"/>
                      </a:lnTo>
                      <a:lnTo>
                        <a:pt x="590" y="2627"/>
                      </a:lnTo>
                      <a:lnTo>
                        <a:pt x="597" y="2618"/>
                      </a:lnTo>
                      <a:lnTo>
                        <a:pt x="598" y="2607"/>
                      </a:lnTo>
                      <a:lnTo>
                        <a:pt x="600" y="2597"/>
                      </a:lnTo>
                      <a:lnTo>
                        <a:pt x="610" y="2591"/>
                      </a:lnTo>
                      <a:lnTo>
                        <a:pt x="628" y="2594"/>
                      </a:lnTo>
                      <a:lnTo>
                        <a:pt x="647" y="2598"/>
                      </a:lnTo>
                      <a:lnTo>
                        <a:pt x="652" y="2601"/>
                      </a:lnTo>
                      <a:lnTo>
                        <a:pt x="652" y="2607"/>
                      </a:lnTo>
                      <a:lnTo>
                        <a:pt x="659" y="2606"/>
                      </a:lnTo>
                      <a:lnTo>
                        <a:pt x="665" y="2607"/>
                      </a:lnTo>
                      <a:lnTo>
                        <a:pt x="685" y="2629"/>
                      </a:lnTo>
                      <a:lnTo>
                        <a:pt x="702" y="2650"/>
                      </a:lnTo>
                      <a:lnTo>
                        <a:pt x="727" y="2665"/>
                      </a:lnTo>
                      <a:lnTo>
                        <a:pt x="763" y="2667"/>
                      </a:lnTo>
                      <a:lnTo>
                        <a:pt x="777" y="2669"/>
                      </a:lnTo>
                      <a:lnTo>
                        <a:pt x="791" y="2678"/>
                      </a:lnTo>
                      <a:lnTo>
                        <a:pt x="805" y="2689"/>
                      </a:lnTo>
                      <a:lnTo>
                        <a:pt x="819" y="2700"/>
                      </a:lnTo>
                      <a:lnTo>
                        <a:pt x="841" y="2703"/>
                      </a:lnTo>
                      <a:lnTo>
                        <a:pt x="861" y="2696"/>
                      </a:lnTo>
                      <a:lnTo>
                        <a:pt x="881" y="2699"/>
                      </a:lnTo>
                      <a:lnTo>
                        <a:pt x="900" y="2709"/>
                      </a:lnTo>
                      <a:lnTo>
                        <a:pt x="918" y="2724"/>
                      </a:lnTo>
                      <a:lnTo>
                        <a:pt x="939" y="2732"/>
                      </a:lnTo>
                      <a:lnTo>
                        <a:pt x="941" y="2726"/>
                      </a:lnTo>
                      <a:lnTo>
                        <a:pt x="943" y="2724"/>
                      </a:lnTo>
                      <a:lnTo>
                        <a:pt x="952" y="2729"/>
                      </a:lnTo>
                      <a:lnTo>
                        <a:pt x="956" y="2739"/>
                      </a:lnTo>
                      <a:lnTo>
                        <a:pt x="956" y="2747"/>
                      </a:lnTo>
                      <a:lnTo>
                        <a:pt x="959" y="2752"/>
                      </a:lnTo>
                      <a:lnTo>
                        <a:pt x="993" y="2771"/>
                      </a:lnTo>
                      <a:lnTo>
                        <a:pt x="1022" y="2793"/>
                      </a:lnTo>
                      <a:lnTo>
                        <a:pt x="1042" y="2822"/>
                      </a:lnTo>
                      <a:lnTo>
                        <a:pt x="1051" y="2858"/>
                      </a:lnTo>
                      <a:lnTo>
                        <a:pt x="1059" y="2863"/>
                      </a:lnTo>
                      <a:lnTo>
                        <a:pt x="1064" y="2873"/>
                      </a:lnTo>
                      <a:lnTo>
                        <a:pt x="1064" y="2874"/>
                      </a:lnTo>
                      <a:lnTo>
                        <a:pt x="1059" y="2875"/>
                      </a:lnTo>
                      <a:lnTo>
                        <a:pt x="1056" y="2876"/>
                      </a:lnTo>
                      <a:lnTo>
                        <a:pt x="1056" y="2879"/>
                      </a:lnTo>
                      <a:lnTo>
                        <a:pt x="1064" y="2895"/>
                      </a:lnTo>
                      <a:lnTo>
                        <a:pt x="1074" y="2905"/>
                      </a:lnTo>
                      <a:lnTo>
                        <a:pt x="1092" y="2910"/>
                      </a:lnTo>
                      <a:lnTo>
                        <a:pt x="1107" y="2920"/>
                      </a:lnTo>
                      <a:lnTo>
                        <a:pt x="1111" y="2917"/>
                      </a:lnTo>
                      <a:lnTo>
                        <a:pt x="1115" y="2910"/>
                      </a:lnTo>
                      <a:lnTo>
                        <a:pt x="1121" y="2912"/>
                      </a:lnTo>
                      <a:lnTo>
                        <a:pt x="1124" y="2921"/>
                      </a:lnTo>
                      <a:lnTo>
                        <a:pt x="1122" y="2922"/>
                      </a:lnTo>
                      <a:lnTo>
                        <a:pt x="1120" y="2925"/>
                      </a:lnTo>
                      <a:lnTo>
                        <a:pt x="1129" y="2927"/>
                      </a:lnTo>
                      <a:lnTo>
                        <a:pt x="1137" y="2932"/>
                      </a:lnTo>
                      <a:lnTo>
                        <a:pt x="1148" y="2943"/>
                      </a:lnTo>
                      <a:lnTo>
                        <a:pt x="1158" y="2955"/>
                      </a:lnTo>
                      <a:lnTo>
                        <a:pt x="1178" y="2957"/>
                      </a:lnTo>
                      <a:lnTo>
                        <a:pt x="1198" y="2958"/>
                      </a:lnTo>
                      <a:lnTo>
                        <a:pt x="1215" y="2973"/>
                      </a:lnTo>
                      <a:lnTo>
                        <a:pt x="1222" y="2997"/>
                      </a:lnTo>
                      <a:lnTo>
                        <a:pt x="1228" y="3001"/>
                      </a:lnTo>
                      <a:lnTo>
                        <a:pt x="1235" y="3002"/>
                      </a:lnTo>
                      <a:lnTo>
                        <a:pt x="1241" y="3017"/>
                      </a:lnTo>
                      <a:lnTo>
                        <a:pt x="1238" y="3032"/>
                      </a:lnTo>
                      <a:lnTo>
                        <a:pt x="1234" y="3044"/>
                      </a:lnTo>
                      <a:lnTo>
                        <a:pt x="1233" y="3054"/>
                      </a:lnTo>
                      <a:lnTo>
                        <a:pt x="1241" y="3069"/>
                      </a:lnTo>
                      <a:lnTo>
                        <a:pt x="1257" y="3079"/>
                      </a:lnTo>
                      <a:lnTo>
                        <a:pt x="1277" y="3082"/>
                      </a:lnTo>
                      <a:lnTo>
                        <a:pt x="1301" y="3082"/>
                      </a:lnTo>
                      <a:lnTo>
                        <a:pt x="1301" y="3077"/>
                      </a:lnTo>
                      <a:lnTo>
                        <a:pt x="1304" y="3074"/>
                      </a:lnTo>
                      <a:lnTo>
                        <a:pt x="1316" y="3084"/>
                      </a:lnTo>
                      <a:lnTo>
                        <a:pt x="1322" y="3096"/>
                      </a:lnTo>
                      <a:lnTo>
                        <a:pt x="1326" y="3121"/>
                      </a:lnTo>
                      <a:lnTo>
                        <a:pt x="1324" y="3144"/>
                      </a:lnTo>
                      <a:lnTo>
                        <a:pt x="1319" y="3157"/>
                      </a:lnTo>
                      <a:lnTo>
                        <a:pt x="1314" y="3168"/>
                      </a:lnTo>
                      <a:lnTo>
                        <a:pt x="1314" y="3178"/>
                      </a:lnTo>
                      <a:lnTo>
                        <a:pt x="1321" y="3188"/>
                      </a:lnTo>
                      <a:lnTo>
                        <a:pt x="1340" y="3195"/>
                      </a:lnTo>
                      <a:lnTo>
                        <a:pt x="1361" y="3204"/>
                      </a:lnTo>
                      <a:lnTo>
                        <a:pt x="1359" y="3214"/>
                      </a:lnTo>
                      <a:lnTo>
                        <a:pt x="1366" y="3220"/>
                      </a:lnTo>
                      <a:lnTo>
                        <a:pt x="1384" y="3220"/>
                      </a:lnTo>
                      <a:lnTo>
                        <a:pt x="1400" y="3210"/>
                      </a:lnTo>
                      <a:lnTo>
                        <a:pt x="1406" y="3208"/>
                      </a:lnTo>
                      <a:lnTo>
                        <a:pt x="1414" y="3210"/>
                      </a:lnTo>
                      <a:lnTo>
                        <a:pt x="1422" y="3217"/>
                      </a:lnTo>
                      <a:lnTo>
                        <a:pt x="1431" y="3222"/>
                      </a:lnTo>
                      <a:lnTo>
                        <a:pt x="1432" y="3210"/>
                      </a:lnTo>
                      <a:lnTo>
                        <a:pt x="1439" y="3205"/>
                      </a:lnTo>
                      <a:lnTo>
                        <a:pt x="1455" y="3207"/>
                      </a:lnTo>
                      <a:lnTo>
                        <a:pt x="1471" y="3207"/>
                      </a:lnTo>
                      <a:lnTo>
                        <a:pt x="1484" y="3210"/>
                      </a:lnTo>
                      <a:lnTo>
                        <a:pt x="1495" y="3222"/>
                      </a:lnTo>
                      <a:lnTo>
                        <a:pt x="1512" y="3220"/>
                      </a:lnTo>
                      <a:lnTo>
                        <a:pt x="1527" y="3220"/>
                      </a:lnTo>
                      <a:lnTo>
                        <a:pt x="1527" y="3217"/>
                      </a:lnTo>
                      <a:lnTo>
                        <a:pt x="1523" y="3213"/>
                      </a:lnTo>
                      <a:lnTo>
                        <a:pt x="1526" y="3209"/>
                      </a:lnTo>
                      <a:lnTo>
                        <a:pt x="1532" y="3208"/>
                      </a:lnTo>
                      <a:lnTo>
                        <a:pt x="1536" y="3212"/>
                      </a:lnTo>
                      <a:lnTo>
                        <a:pt x="1536" y="3218"/>
                      </a:lnTo>
                      <a:lnTo>
                        <a:pt x="1544" y="3218"/>
                      </a:lnTo>
                      <a:lnTo>
                        <a:pt x="1549" y="3217"/>
                      </a:lnTo>
                      <a:lnTo>
                        <a:pt x="1556" y="3203"/>
                      </a:lnTo>
                      <a:lnTo>
                        <a:pt x="1569" y="3198"/>
                      </a:lnTo>
                      <a:lnTo>
                        <a:pt x="1583" y="3195"/>
                      </a:lnTo>
                      <a:lnTo>
                        <a:pt x="1595" y="3192"/>
                      </a:lnTo>
                      <a:lnTo>
                        <a:pt x="1613" y="3171"/>
                      </a:lnTo>
                      <a:lnTo>
                        <a:pt x="1633" y="3149"/>
                      </a:lnTo>
                      <a:lnTo>
                        <a:pt x="1640" y="3151"/>
                      </a:lnTo>
                      <a:lnTo>
                        <a:pt x="1643" y="3154"/>
                      </a:lnTo>
                      <a:lnTo>
                        <a:pt x="1643" y="3158"/>
                      </a:lnTo>
                      <a:lnTo>
                        <a:pt x="1643" y="3163"/>
                      </a:lnTo>
                      <a:lnTo>
                        <a:pt x="1658" y="3159"/>
                      </a:lnTo>
                      <a:lnTo>
                        <a:pt x="1671" y="3164"/>
                      </a:lnTo>
                      <a:lnTo>
                        <a:pt x="1681" y="3174"/>
                      </a:lnTo>
                      <a:lnTo>
                        <a:pt x="1690" y="3186"/>
                      </a:lnTo>
                      <a:lnTo>
                        <a:pt x="1690" y="3177"/>
                      </a:lnTo>
                      <a:lnTo>
                        <a:pt x="1693" y="3173"/>
                      </a:lnTo>
                      <a:lnTo>
                        <a:pt x="1706" y="3184"/>
                      </a:lnTo>
                      <a:lnTo>
                        <a:pt x="1718" y="3198"/>
                      </a:lnTo>
                      <a:lnTo>
                        <a:pt x="1728" y="3195"/>
                      </a:lnTo>
                      <a:lnTo>
                        <a:pt x="1734" y="3192"/>
                      </a:lnTo>
                      <a:lnTo>
                        <a:pt x="1751" y="3195"/>
                      </a:lnTo>
                      <a:lnTo>
                        <a:pt x="1763" y="3189"/>
                      </a:lnTo>
                      <a:lnTo>
                        <a:pt x="1775" y="3181"/>
                      </a:lnTo>
                      <a:lnTo>
                        <a:pt x="1787" y="3176"/>
                      </a:lnTo>
                      <a:lnTo>
                        <a:pt x="1809" y="3173"/>
                      </a:lnTo>
                      <a:lnTo>
                        <a:pt x="1829" y="3163"/>
                      </a:lnTo>
                      <a:lnTo>
                        <a:pt x="1841" y="3177"/>
                      </a:lnTo>
                      <a:lnTo>
                        <a:pt x="1859" y="3187"/>
                      </a:lnTo>
                      <a:lnTo>
                        <a:pt x="1874" y="3198"/>
                      </a:lnTo>
                      <a:lnTo>
                        <a:pt x="1887" y="3215"/>
                      </a:lnTo>
                      <a:lnTo>
                        <a:pt x="1894" y="3222"/>
                      </a:lnTo>
                      <a:lnTo>
                        <a:pt x="1906" y="3223"/>
                      </a:lnTo>
                      <a:lnTo>
                        <a:pt x="1920" y="3224"/>
                      </a:lnTo>
                      <a:lnTo>
                        <a:pt x="1930" y="3230"/>
                      </a:lnTo>
                      <a:lnTo>
                        <a:pt x="1932" y="3225"/>
                      </a:lnTo>
                      <a:lnTo>
                        <a:pt x="1935" y="3222"/>
                      </a:lnTo>
                      <a:lnTo>
                        <a:pt x="1940" y="3222"/>
                      </a:lnTo>
                      <a:lnTo>
                        <a:pt x="1944" y="3223"/>
                      </a:lnTo>
                      <a:lnTo>
                        <a:pt x="1948" y="3233"/>
                      </a:lnTo>
                      <a:lnTo>
                        <a:pt x="1950" y="3243"/>
                      </a:lnTo>
                      <a:lnTo>
                        <a:pt x="1956" y="3245"/>
                      </a:lnTo>
                      <a:lnTo>
                        <a:pt x="1963" y="3240"/>
                      </a:lnTo>
                      <a:lnTo>
                        <a:pt x="1972" y="3248"/>
                      </a:lnTo>
                      <a:lnTo>
                        <a:pt x="1981" y="3258"/>
                      </a:lnTo>
                      <a:lnTo>
                        <a:pt x="1989" y="3265"/>
                      </a:lnTo>
                      <a:lnTo>
                        <a:pt x="2000" y="3266"/>
                      </a:lnTo>
                      <a:lnTo>
                        <a:pt x="2000" y="3260"/>
                      </a:lnTo>
                      <a:lnTo>
                        <a:pt x="2005" y="3259"/>
                      </a:lnTo>
                      <a:lnTo>
                        <a:pt x="2010" y="3263"/>
                      </a:lnTo>
                      <a:lnTo>
                        <a:pt x="2012" y="3266"/>
                      </a:lnTo>
                      <a:lnTo>
                        <a:pt x="1940" y="3388"/>
                      </a:lnTo>
                      <a:lnTo>
                        <a:pt x="1862" y="3502"/>
                      </a:lnTo>
                      <a:lnTo>
                        <a:pt x="1867" y="3507"/>
                      </a:lnTo>
                      <a:lnTo>
                        <a:pt x="1884" y="3513"/>
                      </a:lnTo>
                      <a:lnTo>
                        <a:pt x="1903" y="3517"/>
                      </a:lnTo>
                      <a:lnTo>
                        <a:pt x="1920" y="3516"/>
                      </a:lnTo>
                      <a:lnTo>
                        <a:pt x="1939" y="3511"/>
                      </a:lnTo>
                      <a:lnTo>
                        <a:pt x="1957" y="3511"/>
                      </a:lnTo>
                      <a:lnTo>
                        <a:pt x="1971" y="3523"/>
                      </a:lnTo>
                      <a:lnTo>
                        <a:pt x="1980" y="3538"/>
                      </a:lnTo>
                      <a:lnTo>
                        <a:pt x="1993" y="3557"/>
                      </a:lnTo>
                      <a:lnTo>
                        <a:pt x="2007" y="3576"/>
                      </a:lnTo>
                      <a:lnTo>
                        <a:pt x="2023" y="3591"/>
                      </a:lnTo>
                      <a:lnTo>
                        <a:pt x="2037" y="3599"/>
                      </a:lnTo>
                      <a:lnTo>
                        <a:pt x="2159" y="2921"/>
                      </a:lnTo>
                      <a:lnTo>
                        <a:pt x="2151" y="2900"/>
                      </a:lnTo>
                      <a:lnTo>
                        <a:pt x="2138" y="2881"/>
                      </a:lnTo>
                      <a:lnTo>
                        <a:pt x="2125" y="2861"/>
                      </a:lnTo>
                      <a:lnTo>
                        <a:pt x="2118" y="2840"/>
                      </a:lnTo>
                      <a:lnTo>
                        <a:pt x="2120" y="2831"/>
                      </a:lnTo>
                      <a:lnTo>
                        <a:pt x="2126" y="2823"/>
                      </a:lnTo>
                      <a:lnTo>
                        <a:pt x="2130" y="2815"/>
                      </a:lnTo>
                      <a:lnTo>
                        <a:pt x="2128" y="2805"/>
                      </a:lnTo>
                      <a:lnTo>
                        <a:pt x="2108" y="2782"/>
                      </a:lnTo>
                      <a:lnTo>
                        <a:pt x="2076" y="2764"/>
                      </a:lnTo>
                      <a:lnTo>
                        <a:pt x="2044" y="2747"/>
                      </a:lnTo>
                      <a:lnTo>
                        <a:pt x="2020" y="2727"/>
                      </a:lnTo>
                      <a:lnTo>
                        <a:pt x="2017" y="2565"/>
                      </a:lnTo>
                      <a:lnTo>
                        <a:pt x="2030" y="2556"/>
                      </a:lnTo>
                      <a:lnTo>
                        <a:pt x="2053" y="2556"/>
                      </a:lnTo>
                      <a:lnTo>
                        <a:pt x="2080" y="2556"/>
                      </a:lnTo>
                      <a:lnTo>
                        <a:pt x="2102" y="2547"/>
                      </a:lnTo>
                      <a:lnTo>
                        <a:pt x="2110" y="2553"/>
                      </a:lnTo>
                      <a:lnTo>
                        <a:pt x="2120" y="2551"/>
                      </a:lnTo>
                      <a:lnTo>
                        <a:pt x="2127" y="2547"/>
                      </a:lnTo>
                      <a:lnTo>
                        <a:pt x="2133" y="2540"/>
                      </a:lnTo>
                      <a:lnTo>
                        <a:pt x="2140" y="2535"/>
                      </a:lnTo>
                      <a:lnTo>
                        <a:pt x="2146" y="2536"/>
                      </a:lnTo>
                      <a:lnTo>
                        <a:pt x="2174" y="2553"/>
                      </a:lnTo>
                      <a:lnTo>
                        <a:pt x="2204" y="2558"/>
                      </a:lnTo>
                      <a:lnTo>
                        <a:pt x="2209" y="2557"/>
                      </a:lnTo>
                      <a:lnTo>
                        <a:pt x="2217" y="2555"/>
                      </a:lnTo>
                      <a:lnTo>
                        <a:pt x="2222" y="2548"/>
                      </a:lnTo>
                      <a:lnTo>
                        <a:pt x="2222" y="2538"/>
                      </a:lnTo>
                      <a:lnTo>
                        <a:pt x="2217" y="2538"/>
                      </a:lnTo>
                      <a:lnTo>
                        <a:pt x="2213" y="2535"/>
                      </a:lnTo>
                      <a:lnTo>
                        <a:pt x="2214" y="2530"/>
                      </a:lnTo>
                      <a:lnTo>
                        <a:pt x="2217" y="2525"/>
                      </a:lnTo>
                      <a:lnTo>
                        <a:pt x="2217" y="2520"/>
                      </a:lnTo>
                      <a:lnTo>
                        <a:pt x="2213" y="2517"/>
                      </a:lnTo>
                      <a:lnTo>
                        <a:pt x="2221" y="2509"/>
                      </a:lnTo>
                      <a:lnTo>
                        <a:pt x="2224" y="2504"/>
                      </a:lnTo>
                      <a:lnTo>
                        <a:pt x="2213" y="2485"/>
                      </a:lnTo>
                      <a:lnTo>
                        <a:pt x="2199" y="2466"/>
                      </a:lnTo>
                      <a:lnTo>
                        <a:pt x="2178" y="2454"/>
                      </a:lnTo>
                      <a:lnTo>
                        <a:pt x="2151" y="2453"/>
                      </a:lnTo>
                      <a:lnTo>
                        <a:pt x="2132" y="2454"/>
                      </a:lnTo>
                      <a:lnTo>
                        <a:pt x="2108" y="2454"/>
                      </a:lnTo>
                      <a:lnTo>
                        <a:pt x="2084" y="2451"/>
                      </a:lnTo>
                      <a:lnTo>
                        <a:pt x="2067" y="2446"/>
                      </a:lnTo>
                      <a:lnTo>
                        <a:pt x="2067" y="2331"/>
                      </a:lnTo>
                      <a:lnTo>
                        <a:pt x="2071" y="2325"/>
                      </a:lnTo>
                      <a:lnTo>
                        <a:pt x="2078" y="2320"/>
                      </a:lnTo>
                      <a:lnTo>
                        <a:pt x="2098" y="2319"/>
                      </a:lnTo>
                      <a:lnTo>
                        <a:pt x="2117" y="2311"/>
                      </a:lnTo>
                      <a:lnTo>
                        <a:pt x="2132" y="2305"/>
                      </a:lnTo>
                      <a:lnTo>
                        <a:pt x="2143" y="2305"/>
                      </a:lnTo>
                      <a:lnTo>
                        <a:pt x="2153" y="2310"/>
                      </a:lnTo>
                      <a:lnTo>
                        <a:pt x="2171" y="2314"/>
                      </a:lnTo>
                      <a:lnTo>
                        <a:pt x="2191" y="2316"/>
                      </a:lnTo>
                      <a:lnTo>
                        <a:pt x="2213" y="2320"/>
                      </a:lnTo>
                      <a:lnTo>
                        <a:pt x="2219" y="2320"/>
                      </a:lnTo>
                      <a:lnTo>
                        <a:pt x="2239" y="2320"/>
                      </a:lnTo>
                      <a:lnTo>
                        <a:pt x="2266" y="2320"/>
                      </a:lnTo>
                      <a:lnTo>
                        <a:pt x="2299" y="2320"/>
                      </a:lnTo>
                      <a:lnTo>
                        <a:pt x="2336" y="2320"/>
                      </a:lnTo>
                      <a:lnTo>
                        <a:pt x="2375" y="2320"/>
                      </a:lnTo>
                      <a:lnTo>
                        <a:pt x="2409" y="2319"/>
                      </a:lnTo>
                      <a:lnTo>
                        <a:pt x="2440" y="2319"/>
                      </a:lnTo>
                      <a:lnTo>
                        <a:pt x="2440" y="2316"/>
                      </a:lnTo>
                      <a:lnTo>
                        <a:pt x="2435" y="2313"/>
                      </a:lnTo>
                      <a:lnTo>
                        <a:pt x="2428" y="2306"/>
                      </a:lnTo>
                      <a:lnTo>
                        <a:pt x="2424" y="2300"/>
                      </a:lnTo>
                      <a:lnTo>
                        <a:pt x="2423" y="2289"/>
                      </a:lnTo>
                      <a:lnTo>
                        <a:pt x="2427" y="2279"/>
                      </a:lnTo>
                      <a:lnTo>
                        <a:pt x="2432" y="2271"/>
                      </a:lnTo>
                      <a:lnTo>
                        <a:pt x="2440" y="2268"/>
                      </a:lnTo>
                      <a:lnTo>
                        <a:pt x="2453" y="2273"/>
                      </a:lnTo>
                      <a:lnTo>
                        <a:pt x="2459" y="2285"/>
                      </a:lnTo>
                      <a:lnTo>
                        <a:pt x="2466" y="2299"/>
                      </a:lnTo>
                      <a:lnTo>
                        <a:pt x="2478" y="2309"/>
                      </a:lnTo>
                      <a:lnTo>
                        <a:pt x="2501" y="2315"/>
                      </a:lnTo>
                      <a:lnTo>
                        <a:pt x="2523" y="2309"/>
                      </a:lnTo>
                      <a:lnTo>
                        <a:pt x="2542" y="2289"/>
                      </a:lnTo>
                      <a:lnTo>
                        <a:pt x="2558" y="2266"/>
                      </a:lnTo>
                      <a:lnTo>
                        <a:pt x="2576" y="2249"/>
                      </a:lnTo>
                      <a:lnTo>
                        <a:pt x="2598" y="2238"/>
                      </a:lnTo>
                      <a:lnTo>
                        <a:pt x="2615" y="2242"/>
                      </a:lnTo>
                      <a:lnTo>
                        <a:pt x="2624" y="2257"/>
                      </a:lnTo>
                      <a:lnTo>
                        <a:pt x="2629" y="2276"/>
                      </a:lnTo>
                      <a:lnTo>
                        <a:pt x="2636" y="2294"/>
                      </a:lnTo>
                      <a:lnTo>
                        <a:pt x="2646" y="2305"/>
                      </a:lnTo>
                      <a:lnTo>
                        <a:pt x="2656" y="2316"/>
                      </a:lnTo>
                      <a:lnTo>
                        <a:pt x="2670" y="2344"/>
                      </a:lnTo>
                      <a:lnTo>
                        <a:pt x="2678" y="2373"/>
                      </a:lnTo>
                      <a:lnTo>
                        <a:pt x="2681" y="2388"/>
                      </a:lnTo>
                      <a:lnTo>
                        <a:pt x="2680" y="2405"/>
                      </a:lnTo>
                      <a:lnTo>
                        <a:pt x="2680" y="2421"/>
                      </a:lnTo>
                      <a:lnTo>
                        <a:pt x="2684" y="2433"/>
                      </a:lnTo>
                      <a:lnTo>
                        <a:pt x="2691" y="2436"/>
                      </a:lnTo>
                      <a:lnTo>
                        <a:pt x="2702" y="2436"/>
                      </a:lnTo>
                      <a:lnTo>
                        <a:pt x="2715" y="2436"/>
                      </a:lnTo>
                      <a:lnTo>
                        <a:pt x="2727" y="2436"/>
                      </a:lnTo>
                      <a:lnTo>
                        <a:pt x="2732" y="2424"/>
                      </a:lnTo>
                      <a:lnTo>
                        <a:pt x="2735" y="2413"/>
                      </a:lnTo>
                      <a:lnTo>
                        <a:pt x="2727" y="2401"/>
                      </a:lnTo>
                      <a:lnTo>
                        <a:pt x="2719" y="2390"/>
                      </a:lnTo>
                      <a:lnTo>
                        <a:pt x="2716" y="2371"/>
                      </a:lnTo>
                      <a:lnTo>
                        <a:pt x="2717" y="2355"/>
                      </a:lnTo>
                      <a:lnTo>
                        <a:pt x="2701" y="2311"/>
                      </a:lnTo>
                      <a:lnTo>
                        <a:pt x="2678" y="2269"/>
                      </a:lnTo>
                      <a:lnTo>
                        <a:pt x="2675" y="2259"/>
                      </a:lnTo>
                      <a:lnTo>
                        <a:pt x="2678" y="2250"/>
                      </a:lnTo>
                      <a:lnTo>
                        <a:pt x="2681" y="2242"/>
                      </a:lnTo>
                      <a:lnTo>
                        <a:pt x="2675" y="2234"/>
                      </a:lnTo>
                      <a:lnTo>
                        <a:pt x="2665" y="2229"/>
                      </a:lnTo>
                      <a:lnTo>
                        <a:pt x="2660" y="2224"/>
                      </a:lnTo>
                      <a:lnTo>
                        <a:pt x="2654" y="2186"/>
                      </a:lnTo>
                      <a:lnTo>
                        <a:pt x="2633" y="2156"/>
                      </a:lnTo>
                      <a:lnTo>
                        <a:pt x="2603" y="2130"/>
                      </a:lnTo>
                      <a:lnTo>
                        <a:pt x="2575" y="2103"/>
                      </a:lnTo>
                      <a:lnTo>
                        <a:pt x="2574" y="2095"/>
                      </a:lnTo>
                      <a:lnTo>
                        <a:pt x="2574" y="2090"/>
                      </a:lnTo>
                      <a:lnTo>
                        <a:pt x="2548" y="2080"/>
                      </a:lnTo>
                      <a:lnTo>
                        <a:pt x="2524" y="2072"/>
                      </a:lnTo>
                      <a:lnTo>
                        <a:pt x="2578" y="2022"/>
                      </a:lnTo>
                      <a:lnTo>
                        <a:pt x="2634" y="1971"/>
                      </a:lnTo>
                      <a:lnTo>
                        <a:pt x="2634" y="1958"/>
                      </a:lnTo>
                      <a:lnTo>
                        <a:pt x="2629" y="1946"/>
                      </a:lnTo>
                      <a:lnTo>
                        <a:pt x="2613" y="1920"/>
                      </a:lnTo>
                      <a:lnTo>
                        <a:pt x="2603" y="1891"/>
                      </a:lnTo>
                      <a:lnTo>
                        <a:pt x="2602" y="1884"/>
                      </a:lnTo>
                      <a:lnTo>
                        <a:pt x="2600" y="1876"/>
                      </a:lnTo>
                      <a:lnTo>
                        <a:pt x="2593" y="1869"/>
                      </a:lnTo>
                      <a:lnTo>
                        <a:pt x="2583" y="1869"/>
                      </a:lnTo>
                      <a:lnTo>
                        <a:pt x="2583" y="1876"/>
                      </a:lnTo>
                      <a:lnTo>
                        <a:pt x="2581" y="1876"/>
                      </a:lnTo>
                      <a:lnTo>
                        <a:pt x="2560" y="1858"/>
                      </a:lnTo>
                      <a:lnTo>
                        <a:pt x="2550" y="1833"/>
                      </a:lnTo>
                      <a:lnTo>
                        <a:pt x="2545" y="1807"/>
                      </a:lnTo>
                      <a:lnTo>
                        <a:pt x="2538" y="1782"/>
                      </a:lnTo>
                      <a:lnTo>
                        <a:pt x="2534" y="1765"/>
                      </a:lnTo>
                      <a:lnTo>
                        <a:pt x="2532" y="1745"/>
                      </a:lnTo>
                      <a:lnTo>
                        <a:pt x="2527" y="1725"/>
                      </a:lnTo>
                      <a:lnTo>
                        <a:pt x="2516" y="1705"/>
                      </a:lnTo>
                      <a:lnTo>
                        <a:pt x="2513" y="1693"/>
                      </a:lnTo>
                      <a:lnTo>
                        <a:pt x="2514" y="1678"/>
                      </a:lnTo>
                      <a:lnTo>
                        <a:pt x="2519" y="1664"/>
                      </a:lnTo>
                      <a:lnTo>
                        <a:pt x="2524" y="1649"/>
                      </a:lnTo>
                      <a:lnTo>
                        <a:pt x="2518" y="1648"/>
                      </a:lnTo>
                      <a:lnTo>
                        <a:pt x="2515" y="1644"/>
                      </a:lnTo>
                      <a:lnTo>
                        <a:pt x="2521" y="1597"/>
                      </a:lnTo>
                      <a:lnTo>
                        <a:pt x="2521" y="1555"/>
                      </a:lnTo>
                      <a:lnTo>
                        <a:pt x="2527" y="1542"/>
                      </a:lnTo>
                      <a:lnTo>
                        <a:pt x="2539" y="1527"/>
                      </a:lnTo>
                      <a:lnTo>
                        <a:pt x="2556" y="1512"/>
                      </a:lnTo>
                      <a:lnTo>
                        <a:pt x="2573" y="1499"/>
                      </a:lnTo>
                      <a:lnTo>
                        <a:pt x="2573" y="1489"/>
                      </a:lnTo>
                      <a:lnTo>
                        <a:pt x="2568" y="1478"/>
                      </a:lnTo>
                      <a:lnTo>
                        <a:pt x="2563" y="1456"/>
                      </a:lnTo>
                      <a:lnTo>
                        <a:pt x="2565" y="1440"/>
                      </a:lnTo>
                      <a:lnTo>
                        <a:pt x="2569" y="1428"/>
                      </a:lnTo>
                      <a:lnTo>
                        <a:pt x="2575" y="1421"/>
                      </a:lnTo>
                      <a:lnTo>
                        <a:pt x="2595" y="1408"/>
                      </a:lnTo>
                      <a:lnTo>
                        <a:pt x="2618" y="1391"/>
                      </a:lnTo>
                      <a:lnTo>
                        <a:pt x="2620" y="1387"/>
                      </a:lnTo>
                      <a:lnTo>
                        <a:pt x="2616" y="1385"/>
                      </a:lnTo>
                      <a:lnTo>
                        <a:pt x="2611" y="1382"/>
                      </a:lnTo>
                      <a:lnTo>
                        <a:pt x="2607" y="1380"/>
                      </a:lnTo>
                      <a:lnTo>
                        <a:pt x="2605" y="1360"/>
                      </a:lnTo>
                      <a:lnTo>
                        <a:pt x="2605" y="1345"/>
                      </a:lnTo>
                      <a:lnTo>
                        <a:pt x="2600" y="1335"/>
                      </a:lnTo>
                      <a:lnTo>
                        <a:pt x="2583" y="1328"/>
                      </a:lnTo>
                      <a:lnTo>
                        <a:pt x="2552" y="1320"/>
                      </a:lnTo>
                      <a:lnTo>
                        <a:pt x="2524" y="1319"/>
                      </a:lnTo>
                      <a:lnTo>
                        <a:pt x="2505" y="1326"/>
                      </a:lnTo>
                      <a:lnTo>
                        <a:pt x="2485" y="1335"/>
                      </a:lnTo>
                      <a:lnTo>
                        <a:pt x="2470" y="1339"/>
                      </a:lnTo>
                      <a:lnTo>
                        <a:pt x="2454" y="1340"/>
                      </a:lnTo>
                      <a:lnTo>
                        <a:pt x="2437" y="1340"/>
                      </a:lnTo>
                      <a:lnTo>
                        <a:pt x="2420" y="1345"/>
                      </a:lnTo>
                      <a:lnTo>
                        <a:pt x="2404" y="1345"/>
                      </a:lnTo>
                      <a:lnTo>
                        <a:pt x="2385" y="1344"/>
                      </a:lnTo>
                      <a:lnTo>
                        <a:pt x="2351" y="1352"/>
                      </a:lnTo>
                      <a:lnTo>
                        <a:pt x="2316" y="1355"/>
                      </a:lnTo>
                      <a:lnTo>
                        <a:pt x="2284" y="1351"/>
                      </a:lnTo>
                      <a:lnTo>
                        <a:pt x="2250" y="1340"/>
                      </a:lnTo>
                      <a:lnTo>
                        <a:pt x="2235" y="1340"/>
                      </a:lnTo>
                      <a:lnTo>
                        <a:pt x="2222" y="1347"/>
                      </a:lnTo>
                      <a:lnTo>
                        <a:pt x="2211" y="1359"/>
                      </a:lnTo>
                      <a:lnTo>
                        <a:pt x="2199" y="1369"/>
                      </a:lnTo>
                      <a:lnTo>
                        <a:pt x="2193" y="1371"/>
                      </a:lnTo>
                      <a:lnTo>
                        <a:pt x="2188" y="1367"/>
                      </a:lnTo>
                      <a:lnTo>
                        <a:pt x="2185" y="1362"/>
                      </a:lnTo>
                      <a:lnTo>
                        <a:pt x="2180" y="1357"/>
                      </a:lnTo>
                      <a:lnTo>
                        <a:pt x="2174" y="1356"/>
                      </a:lnTo>
                      <a:lnTo>
                        <a:pt x="2167" y="1361"/>
                      </a:lnTo>
                      <a:lnTo>
                        <a:pt x="2089" y="1270"/>
                      </a:lnTo>
                      <a:lnTo>
                        <a:pt x="2007" y="1179"/>
                      </a:lnTo>
                      <a:lnTo>
                        <a:pt x="1997" y="1176"/>
                      </a:lnTo>
                      <a:lnTo>
                        <a:pt x="1984" y="1183"/>
                      </a:lnTo>
                      <a:lnTo>
                        <a:pt x="1971" y="1189"/>
                      </a:lnTo>
                      <a:lnTo>
                        <a:pt x="1961" y="1189"/>
                      </a:lnTo>
                      <a:lnTo>
                        <a:pt x="1930" y="1171"/>
                      </a:lnTo>
                      <a:lnTo>
                        <a:pt x="1901" y="1159"/>
                      </a:lnTo>
                      <a:lnTo>
                        <a:pt x="1878" y="1153"/>
                      </a:lnTo>
                      <a:lnTo>
                        <a:pt x="1853" y="1154"/>
                      </a:lnTo>
                      <a:lnTo>
                        <a:pt x="1828" y="1161"/>
                      </a:lnTo>
                      <a:lnTo>
                        <a:pt x="1805" y="1175"/>
                      </a:lnTo>
                      <a:lnTo>
                        <a:pt x="1796" y="1178"/>
                      </a:lnTo>
                      <a:lnTo>
                        <a:pt x="1788" y="1174"/>
                      </a:lnTo>
                      <a:lnTo>
                        <a:pt x="1781" y="1169"/>
                      </a:lnTo>
                      <a:lnTo>
                        <a:pt x="1773" y="1166"/>
                      </a:lnTo>
                      <a:lnTo>
                        <a:pt x="1705" y="1163"/>
                      </a:lnTo>
                      <a:lnTo>
                        <a:pt x="1638" y="1161"/>
                      </a:lnTo>
                      <a:lnTo>
                        <a:pt x="1625" y="1164"/>
                      </a:lnTo>
                      <a:lnTo>
                        <a:pt x="1614" y="1166"/>
                      </a:lnTo>
                      <a:lnTo>
                        <a:pt x="1601" y="1166"/>
                      </a:lnTo>
                      <a:lnTo>
                        <a:pt x="1588" y="1163"/>
                      </a:lnTo>
                      <a:lnTo>
                        <a:pt x="1574" y="1149"/>
                      </a:lnTo>
                      <a:lnTo>
                        <a:pt x="1565" y="1131"/>
                      </a:lnTo>
                      <a:lnTo>
                        <a:pt x="1559" y="1114"/>
                      </a:lnTo>
                      <a:lnTo>
                        <a:pt x="1549" y="1098"/>
                      </a:lnTo>
                      <a:lnTo>
                        <a:pt x="1538" y="1089"/>
                      </a:lnTo>
                      <a:lnTo>
                        <a:pt x="1523" y="1083"/>
                      </a:lnTo>
                      <a:lnTo>
                        <a:pt x="1513" y="1083"/>
                      </a:lnTo>
                      <a:lnTo>
                        <a:pt x="1505" y="1084"/>
                      </a:lnTo>
                      <a:lnTo>
                        <a:pt x="1497" y="1083"/>
                      </a:lnTo>
                      <a:lnTo>
                        <a:pt x="1491" y="1077"/>
                      </a:lnTo>
                      <a:lnTo>
                        <a:pt x="1481" y="1043"/>
                      </a:lnTo>
                      <a:lnTo>
                        <a:pt x="1482" y="1006"/>
                      </a:lnTo>
                      <a:lnTo>
                        <a:pt x="1486" y="1001"/>
                      </a:lnTo>
                      <a:lnTo>
                        <a:pt x="1489" y="997"/>
                      </a:lnTo>
                      <a:lnTo>
                        <a:pt x="1492" y="980"/>
                      </a:lnTo>
                      <a:lnTo>
                        <a:pt x="1496" y="965"/>
                      </a:lnTo>
                      <a:lnTo>
                        <a:pt x="1502" y="918"/>
                      </a:lnTo>
                      <a:lnTo>
                        <a:pt x="1496" y="872"/>
                      </a:lnTo>
                      <a:lnTo>
                        <a:pt x="1486" y="855"/>
                      </a:lnTo>
                      <a:lnTo>
                        <a:pt x="1470" y="840"/>
                      </a:lnTo>
                      <a:lnTo>
                        <a:pt x="1453" y="826"/>
                      </a:lnTo>
                      <a:lnTo>
                        <a:pt x="1441" y="807"/>
                      </a:lnTo>
                      <a:lnTo>
                        <a:pt x="1434" y="779"/>
                      </a:lnTo>
                      <a:lnTo>
                        <a:pt x="1427" y="750"/>
                      </a:lnTo>
                      <a:lnTo>
                        <a:pt x="1423" y="735"/>
                      </a:lnTo>
                      <a:lnTo>
                        <a:pt x="1413" y="720"/>
                      </a:lnTo>
                      <a:lnTo>
                        <a:pt x="1400" y="714"/>
                      </a:lnTo>
                      <a:lnTo>
                        <a:pt x="1384" y="723"/>
                      </a:lnTo>
                      <a:lnTo>
                        <a:pt x="1376" y="700"/>
                      </a:lnTo>
                      <a:lnTo>
                        <a:pt x="1368" y="685"/>
                      </a:lnTo>
                      <a:lnTo>
                        <a:pt x="1354" y="685"/>
                      </a:lnTo>
                      <a:lnTo>
                        <a:pt x="1340" y="694"/>
                      </a:lnTo>
                      <a:lnTo>
                        <a:pt x="1324" y="703"/>
                      </a:lnTo>
                      <a:lnTo>
                        <a:pt x="1306" y="704"/>
                      </a:lnTo>
                      <a:lnTo>
                        <a:pt x="1299" y="697"/>
                      </a:lnTo>
                      <a:lnTo>
                        <a:pt x="1301" y="688"/>
                      </a:lnTo>
                      <a:lnTo>
                        <a:pt x="1325" y="654"/>
                      </a:lnTo>
                      <a:lnTo>
                        <a:pt x="1349" y="621"/>
                      </a:lnTo>
                      <a:lnTo>
                        <a:pt x="1366" y="595"/>
                      </a:lnTo>
                      <a:lnTo>
                        <a:pt x="1382" y="565"/>
                      </a:lnTo>
                      <a:lnTo>
                        <a:pt x="1381" y="558"/>
                      </a:lnTo>
                      <a:lnTo>
                        <a:pt x="1376" y="553"/>
                      </a:lnTo>
                      <a:lnTo>
                        <a:pt x="1384" y="508"/>
                      </a:lnTo>
                      <a:lnTo>
                        <a:pt x="1397" y="468"/>
                      </a:lnTo>
                      <a:lnTo>
                        <a:pt x="1423" y="423"/>
                      </a:lnTo>
                      <a:lnTo>
                        <a:pt x="1450" y="380"/>
                      </a:lnTo>
                      <a:lnTo>
                        <a:pt x="1463" y="344"/>
                      </a:lnTo>
                      <a:lnTo>
                        <a:pt x="1477" y="309"/>
                      </a:lnTo>
                      <a:lnTo>
                        <a:pt x="1487" y="297"/>
                      </a:lnTo>
                      <a:lnTo>
                        <a:pt x="1500" y="285"/>
                      </a:lnTo>
                      <a:lnTo>
                        <a:pt x="1513" y="282"/>
                      </a:lnTo>
                      <a:lnTo>
                        <a:pt x="1523" y="282"/>
                      </a:lnTo>
                      <a:lnTo>
                        <a:pt x="1535" y="282"/>
                      </a:lnTo>
                      <a:lnTo>
                        <a:pt x="1543" y="280"/>
                      </a:lnTo>
                      <a:lnTo>
                        <a:pt x="1574" y="232"/>
                      </a:lnTo>
                      <a:lnTo>
                        <a:pt x="1600" y="180"/>
                      </a:lnTo>
                      <a:lnTo>
                        <a:pt x="1611" y="170"/>
                      </a:lnTo>
                      <a:lnTo>
                        <a:pt x="1627" y="165"/>
                      </a:lnTo>
                      <a:lnTo>
                        <a:pt x="1643" y="163"/>
                      </a:lnTo>
                      <a:lnTo>
                        <a:pt x="1661" y="159"/>
                      </a:lnTo>
                      <a:lnTo>
                        <a:pt x="1669" y="156"/>
                      </a:lnTo>
                      <a:lnTo>
                        <a:pt x="1677" y="153"/>
                      </a:lnTo>
                      <a:lnTo>
                        <a:pt x="1690" y="147"/>
                      </a:lnTo>
                      <a:lnTo>
                        <a:pt x="1706" y="144"/>
                      </a:lnTo>
                      <a:lnTo>
                        <a:pt x="1721" y="140"/>
                      </a:lnTo>
                      <a:lnTo>
                        <a:pt x="1736" y="133"/>
                      </a:lnTo>
                      <a:lnTo>
                        <a:pt x="1761" y="113"/>
                      </a:lnTo>
                      <a:lnTo>
                        <a:pt x="1784" y="91"/>
                      </a:lnTo>
                      <a:lnTo>
                        <a:pt x="1788" y="81"/>
                      </a:lnTo>
                      <a:lnTo>
                        <a:pt x="1783" y="69"/>
                      </a:lnTo>
                      <a:lnTo>
                        <a:pt x="1775" y="57"/>
                      </a:lnTo>
                      <a:lnTo>
                        <a:pt x="1771" y="43"/>
                      </a:lnTo>
                      <a:lnTo>
                        <a:pt x="1763" y="33"/>
                      </a:lnTo>
                      <a:lnTo>
                        <a:pt x="1753" y="23"/>
                      </a:lnTo>
                      <a:lnTo>
                        <a:pt x="1731" y="13"/>
                      </a:lnTo>
                      <a:lnTo>
                        <a:pt x="1708" y="3"/>
                      </a:lnTo>
                      <a:lnTo>
                        <a:pt x="1683" y="0"/>
                      </a:lnTo>
                      <a:lnTo>
                        <a:pt x="1658" y="1"/>
                      </a:lnTo>
                      <a:lnTo>
                        <a:pt x="1651" y="11"/>
                      </a:lnTo>
                      <a:lnTo>
                        <a:pt x="1648" y="28"/>
                      </a:lnTo>
                      <a:lnTo>
                        <a:pt x="1640" y="23"/>
                      </a:lnTo>
                      <a:lnTo>
                        <a:pt x="1633" y="18"/>
                      </a:lnTo>
                      <a:lnTo>
                        <a:pt x="1615" y="20"/>
                      </a:lnTo>
                      <a:lnTo>
                        <a:pt x="1606" y="25"/>
                      </a:lnTo>
                      <a:lnTo>
                        <a:pt x="1604" y="30"/>
                      </a:lnTo>
                      <a:lnTo>
                        <a:pt x="1605" y="36"/>
                      </a:lnTo>
                      <a:lnTo>
                        <a:pt x="1611" y="43"/>
                      </a:lnTo>
                      <a:lnTo>
                        <a:pt x="1613" y="48"/>
                      </a:lnTo>
                      <a:lnTo>
                        <a:pt x="1614" y="54"/>
                      </a:lnTo>
                      <a:lnTo>
                        <a:pt x="1609" y="59"/>
                      </a:lnTo>
                      <a:lnTo>
                        <a:pt x="1595" y="46"/>
                      </a:lnTo>
                      <a:lnTo>
                        <a:pt x="1580" y="43"/>
                      </a:lnTo>
                      <a:lnTo>
                        <a:pt x="1564" y="43"/>
                      </a:lnTo>
                      <a:lnTo>
                        <a:pt x="1551" y="43"/>
                      </a:lnTo>
                      <a:lnTo>
                        <a:pt x="1552" y="56"/>
                      </a:lnTo>
                      <a:lnTo>
                        <a:pt x="1557" y="67"/>
                      </a:lnTo>
                      <a:lnTo>
                        <a:pt x="1556" y="91"/>
                      </a:lnTo>
                      <a:lnTo>
                        <a:pt x="1544" y="109"/>
                      </a:lnTo>
                      <a:lnTo>
                        <a:pt x="1526" y="125"/>
                      </a:lnTo>
                      <a:lnTo>
                        <a:pt x="1502" y="135"/>
                      </a:lnTo>
                      <a:lnTo>
                        <a:pt x="1459" y="148"/>
                      </a:lnTo>
                      <a:lnTo>
                        <a:pt x="1418" y="163"/>
                      </a:lnTo>
                      <a:lnTo>
                        <a:pt x="1386" y="186"/>
                      </a:lnTo>
                      <a:lnTo>
                        <a:pt x="1358" y="212"/>
                      </a:lnTo>
                      <a:lnTo>
                        <a:pt x="1327" y="236"/>
                      </a:lnTo>
                      <a:lnTo>
                        <a:pt x="1294" y="254"/>
                      </a:lnTo>
                      <a:lnTo>
                        <a:pt x="1261" y="260"/>
                      </a:lnTo>
                      <a:lnTo>
                        <a:pt x="1226" y="260"/>
                      </a:lnTo>
                      <a:lnTo>
                        <a:pt x="1192" y="252"/>
                      </a:lnTo>
                      <a:lnTo>
                        <a:pt x="1156" y="240"/>
                      </a:lnTo>
                      <a:lnTo>
                        <a:pt x="1130" y="235"/>
                      </a:lnTo>
                      <a:lnTo>
                        <a:pt x="1108" y="244"/>
                      </a:lnTo>
                      <a:lnTo>
                        <a:pt x="1102" y="256"/>
                      </a:lnTo>
                      <a:lnTo>
                        <a:pt x="1100" y="270"/>
                      </a:lnTo>
                      <a:lnTo>
                        <a:pt x="1097" y="285"/>
                      </a:lnTo>
                      <a:lnTo>
                        <a:pt x="1092" y="297"/>
                      </a:lnTo>
                      <a:lnTo>
                        <a:pt x="1079" y="309"/>
                      </a:lnTo>
                      <a:lnTo>
                        <a:pt x="1065" y="313"/>
                      </a:lnTo>
                      <a:lnTo>
                        <a:pt x="1048" y="311"/>
                      </a:lnTo>
                      <a:lnTo>
                        <a:pt x="1032" y="307"/>
                      </a:lnTo>
                      <a:lnTo>
                        <a:pt x="997" y="295"/>
                      </a:lnTo>
                      <a:lnTo>
                        <a:pt x="964" y="292"/>
                      </a:lnTo>
                      <a:lnTo>
                        <a:pt x="947" y="300"/>
                      </a:lnTo>
                      <a:lnTo>
                        <a:pt x="931" y="311"/>
                      </a:lnTo>
                      <a:lnTo>
                        <a:pt x="918" y="326"/>
                      </a:lnTo>
                      <a:lnTo>
                        <a:pt x="901" y="338"/>
                      </a:lnTo>
                      <a:lnTo>
                        <a:pt x="883" y="348"/>
                      </a:lnTo>
                      <a:lnTo>
                        <a:pt x="866" y="359"/>
                      </a:lnTo>
                      <a:lnTo>
                        <a:pt x="865" y="364"/>
                      </a:lnTo>
                      <a:lnTo>
                        <a:pt x="871" y="367"/>
                      </a:lnTo>
                      <a:lnTo>
                        <a:pt x="851" y="376"/>
                      </a:lnTo>
                      <a:lnTo>
                        <a:pt x="832" y="386"/>
                      </a:lnTo>
                      <a:lnTo>
                        <a:pt x="816" y="397"/>
                      </a:lnTo>
                      <a:lnTo>
                        <a:pt x="803" y="413"/>
                      </a:lnTo>
                      <a:lnTo>
                        <a:pt x="800" y="423"/>
                      </a:lnTo>
                      <a:lnTo>
                        <a:pt x="804" y="431"/>
                      </a:lnTo>
                      <a:lnTo>
                        <a:pt x="810" y="438"/>
                      </a:lnTo>
                      <a:lnTo>
                        <a:pt x="813" y="448"/>
                      </a:lnTo>
                      <a:lnTo>
                        <a:pt x="809" y="453"/>
                      </a:lnTo>
                      <a:lnTo>
                        <a:pt x="800" y="457"/>
                      </a:lnTo>
                      <a:lnTo>
                        <a:pt x="792" y="460"/>
                      </a:lnTo>
                      <a:lnTo>
                        <a:pt x="788" y="463"/>
                      </a:lnTo>
                      <a:lnTo>
                        <a:pt x="782" y="471"/>
                      </a:lnTo>
                      <a:lnTo>
                        <a:pt x="774" y="479"/>
                      </a:lnTo>
                      <a:lnTo>
                        <a:pt x="771" y="488"/>
                      </a:lnTo>
                      <a:lnTo>
                        <a:pt x="774" y="497"/>
                      </a:lnTo>
                      <a:lnTo>
                        <a:pt x="778" y="496"/>
                      </a:lnTo>
                      <a:lnTo>
                        <a:pt x="785" y="491"/>
                      </a:lnTo>
                      <a:lnTo>
                        <a:pt x="792" y="483"/>
                      </a:lnTo>
                      <a:lnTo>
                        <a:pt x="798" y="479"/>
                      </a:lnTo>
                      <a:lnTo>
                        <a:pt x="805" y="479"/>
                      </a:lnTo>
                      <a:lnTo>
                        <a:pt x="810" y="484"/>
                      </a:lnTo>
                      <a:lnTo>
                        <a:pt x="804" y="494"/>
                      </a:lnTo>
                      <a:lnTo>
                        <a:pt x="798" y="503"/>
                      </a:lnTo>
                      <a:lnTo>
                        <a:pt x="808" y="511"/>
                      </a:lnTo>
                      <a:lnTo>
                        <a:pt x="821" y="515"/>
                      </a:lnTo>
                      <a:lnTo>
                        <a:pt x="801" y="530"/>
                      </a:lnTo>
                      <a:lnTo>
                        <a:pt x="790" y="548"/>
                      </a:lnTo>
                      <a:lnTo>
                        <a:pt x="786" y="568"/>
                      </a:lnTo>
                      <a:lnTo>
                        <a:pt x="780" y="585"/>
                      </a:lnTo>
                      <a:lnTo>
                        <a:pt x="790" y="593"/>
                      </a:lnTo>
                      <a:lnTo>
                        <a:pt x="793" y="603"/>
                      </a:lnTo>
                      <a:lnTo>
                        <a:pt x="793" y="615"/>
                      </a:lnTo>
                      <a:lnTo>
                        <a:pt x="790" y="629"/>
                      </a:lnTo>
                      <a:lnTo>
                        <a:pt x="778" y="644"/>
                      </a:lnTo>
                      <a:lnTo>
                        <a:pt x="759" y="654"/>
                      </a:lnTo>
                      <a:lnTo>
                        <a:pt x="748" y="651"/>
                      </a:lnTo>
                      <a:lnTo>
                        <a:pt x="736" y="647"/>
                      </a:lnTo>
                      <a:lnTo>
                        <a:pt x="707" y="654"/>
                      </a:lnTo>
                      <a:lnTo>
                        <a:pt x="682" y="667"/>
                      </a:lnTo>
                      <a:lnTo>
                        <a:pt x="664" y="687"/>
                      </a:lnTo>
                      <a:lnTo>
                        <a:pt x="655" y="714"/>
                      </a:lnTo>
                      <a:lnTo>
                        <a:pt x="652" y="720"/>
                      </a:lnTo>
                      <a:lnTo>
                        <a:pt x="642" y="723"/>
                      </a:lnTo>
                      <a:lnTo>
                        <a:pt x="644" y="730"/>
                      </a:lnTo>
                      <a:lnTo>
                        <a:pt x="641" y="735"/>
                      </a:lnTo>
                      <a:lnTo>
                        <a:pt x="610" y="761"/>
                      </a:lnTo>
                      <a:lnTo>
                        <a:pt x="584" y="785"/>
                      </a:lnTo>
                      <a:lnTo>
                        <a:pt x="555" y="804"/>
                      </a:lnTo>
                      <a:lnTo>
                        <a:pt x="516" y="814"/>
                      </a:lnTo>
                      <a:lnTo>
                        <a:pt x="508" y="814"/>
                      </a:lnTo>
                      <a:lnTo>
                        <a:pt x="499" y="817"/>
                      </a:lnTo>
                      <a:lnTo>
                        <a:pt x="495" y="826"/>
                      </a:lnTo>
                      <a:lnTo>
                        <a:pt x="490" y="831"/>
                      </a:lnTo>
                      <a:lnTo>
                        <a:pt x="490" y="836"/>
                      </a:lnTo>
                      <a:lnTo>
                        <a:pt x="490" y="838"/>
                      </a:lnTo>
                      <a:lnTo>
                        <a:pt x="519" y="861"/>
                      </a:lnTo>
                      <a:lnTo>
                        <a:pt x="530" y="894"/>
                      </a:lnTo>
                      <a:lnTo>
                        <a:pt x="529" y="934"/>
                      </a:lnTo>
                      <a:lnTo>
                        <a:pt x="524" y="970"/>
                      </a:lnTo>
                      <a:lnTo>
                        <a:pt x="516" y="975"/>
                      </a:lnTo>
                      <a:lnTo>
                        <a:pt x="501" y="972"/>
                      </a:lnTo>
                      <a:lnTo>
                        <a:pt x="489" y="967"/>
                      </a:lnTo>
                      <a:lnTo>
                        <a:pt x="488" y="957"/>
                      </a:lnTo>
                      <a:lnTo>
                        <a:pt x="498" y="949"/>
                      </a:lnTo>
                      <a:lnTo>
                        <a:pt x="506" y="940"/>
                      </a:lnTo>
                      <a:lnTo>
                        <a:pt x="511" y="932"/>
                      </a:lnTo>
                      <a:lnTo>
                        <a:pt x="508" y="921"/>
                      </a:lnTo>
                      <a:lnTo>
                        <a:pt x="499" y="923"/>
                      </a:lnTo>
                      <a:lnTo>
                        <a:pt x="490" y="924"/>
                      </a:lnTo>
                      <a:lnTo>
                        <a:pt x="484" y="911"/>
                      </a:lnTo>
                      <a:lnTo>
                        <a:pt x="479" y="901"/>
                      </a:lnTo>
                      <a:lnTo>
                        <a:pt x="459" y="878"/>
                      </a:lnTo>
                      <a:lnTo>
                        <a:pt x="441" y="855"/>
                      </a:lnTo>
                      <a:lnTo>
                        <a:pt x="434" y="851"/>
                      </a:lnTo>
                      <a:lnTo>
                        <a:pt x="426" y="847"/>
                      </a:lnTo>
                      <a:lnTo>
                        <a:pt x="414" y="835"/>
                      </a:lnTo>
                      <a:lnTo>
                        <a:pt x="406" y="817"/>
                      </a:lnTo>
                      <a:lnTo>
                        <a:pt x="399" y="815"/>
                      </a:lnTo>
                      <a:lnTo>
                        <a:pt x="393" y="814"/>
                      </a:lnTo>
                      <a:lnTo>
                        <a:pt x="378" y="833"/>
                      </a:lnTo>
                      <a:lnTo>
                        <a:pt x="380" y="857"/>
                      </a:lnTo>
                      <a:lnTo>
                        <a:pt x="391" y="881"/>
                      </a:lnTo>
                      <a:lnTo>
                        <a:pt x="402" y="904"/>
                      </a:lnTo>
                      <a:lnTo>
                        <a:pt x="414" y="932"/>
                      </a:lnTo>
                      <a:lnTo>
                        <a:pt x="428" y="962"/>
                      </a:lnTo>
                      <a:lnTo>
                        <a:pt x="428" y="967"/>
                      </a:lnTo>
                      <a:lnTo>
                        <a:pt x="421" y="970"/>
                      </a:lnTo>
                      <a:lnTo>
                        <a:pt x="414" y="972"/>
                      </a:lnTo>
                      <a:lnTo>
                        <a:pt x="407" y="975"/>
                      </a:lnTo>
                      <a:lnTo>
                        <a:pt x="389" y="993"/>
                      </a:lnTo>
                      <a:lnTo>
                        <a:pt x="375" y="1016"/>
                      </a:lnTo>
                      <a:lnTo>
                        <a:pt x="360" y="1034"/>
                      </a:lnTo>
                      <a:lnTo>
                        <a:pt x="337" y="1039"/>
                      </a:lnTo>
                      <a:lnTo>
                        <a:pt x="331" y="1036"/>
                      </a:lnTo>
                      <a:lnTo>
                        <a:pt x="324" y="1028"/>
                      </a:lnTo>
                      <a:lnTo>
                        <a:pt x="318" y="1022"/>
                      </a:lnTo>
                      <a:lnTo>
                        <a:pt x="311" y="1022"/>
                      </a:lnTo>
                      <a:lnTo>
                        <a:pt x="306" y="1031"/>
                      </a:lnTo>
                      <a:lnTo>
                        <a:pt x="307" y="1044"/>
                      </a:lnTo>
                      <a:lnTo>
                        <a:pt x="308" y="1057"/>
                      </a:lnTo>
                      <a:lnTo>
                        <a:pt x="307" y="1067"/>
                      </a:lnTo>
                      <a:lnTo>
                        <a:pt x="300" y="1069"/>
                      </a:lnTo>
                      <a:lnTo>
                        <a:pt x="293" y="1067"/>
                      </a:lnTo>
                      <a:lnTo>
                        <a:pt x="288" y="1066"/>
                      </a:lnTo>
                      <a:lnTo>
                        <a:pt x="284" y="1068"/>
                      </a:lnTo>
                      <a:lnTo>
                        <a:pt x="281" y="1078"/>
                      </a:lnTo>
                      <a:lnTo>
                        <a:pt x="276" y="1092"/>
                      </a:lnTo>
                      <a:lnTo>
                        <a:pt x="270" y="1104"/>
                      </a:lnTo>
                      <a:lnTo>
                        <a:pt x="265" y="1112"/>
                      </a:lnTo>
                      <a:lnTo>
                        <a:pt x="266" y="1124"/>
                      </a:lnTo>
                      <a:lnTo>
                        <a:pt x="281" y="1136"/>
                      </a:lnTo>
                      <a:lnTo>
                        <a:pt x="300" y="1151"/>
                      </a:lnTo>
                      <a:lnTo>
                        <a:pt x="318" y="1166"/>
                      </a:lnTo>
                      <a:lnTo>
                        <a:pt x="318" y="1174"/>
                      </a:lnTo>
                      <a:lnTo>
                        <a:pt x="311" y="1189"/>
                      </a:lnTo>
                      <a:lnTo>
                        <a:pt x="305" y="1201"/>
                      </a:lnTo>
                      <a:lnTo>
                        <a:pt x="303" y="1206"/>
                      </a:lnTo>
                      <a:lnTo>
                        <a:pt x="318" y="1206"/>
                      </a:lnTo>
                      <a:lnTo>
                        <a:pt x="331" y="1219"/>
                      </a:lnTo>
                      <a:lnTo>
                        <a:pt x="341" y="1237"/>
                      </a:lnTo>
                      <a:lnTo>
                        <a:pt x="349" y="1252"/>
                      </a:lnTo>
                      <a:lnTo>
                        <a:pt x="355" y="1250"/>
                      </a:lnTo>
                      <a:lnTo>
                        <a:pt x="360" y="1245"/>
                      </a:lnTo>
                      <a:lnTo>
                        <a:pt x="361" y="1238"/>
                      </a:lnTo>
                      <a:lnTo>
                        <a:pt x="365" y="1235"/>
                      </a:lnTo>
                      <a:lnTo>
                        <a:pt x="370" y="1235"/>
                      </a:lnTo>
                      <a:lnTo>
                        <a:pt x="373" y="1240"/>
                      </a:lnTo>
                      <a:lnTo>
                        <a:pt x="376" y="1247"/>
                      </a:lnTo>
                      <a:lnTo>
                        <a:pt x="383" y="1255"/>
                      </a:lnTo>
                      <a:lnTo>
                        <a:pt x="389" y="1263"/>
                      </a:lnTo>
                      <a:lnTo>
                        <a:pt x="391" y="1270"/>
                      </a:lnTo>
                      <a:lnTo>
                        <a:pt x="386" y="1301"/>
                      </a:lnTo>
                      <a:lnTo>
                        <a:pt x="379" y="1325"/>
                      </a:lnTo>
                      <a:lnTo>
                        <a:pt x="371" y="1328"/>
                      </a:lnTo>
                      <a:lnTo>
                        <a:pt x="362" y="1323"/>
                      </a:lnTo>
                      <a:lnTo>
                        <a:pt x="355" y="1318"/>
                      </a:lnTo>
                      <a:lnTo>
                        <a:pt x="350" y="1320"/>
                      </a:lnTo>
                      <a:lnTo>
                        <a:pt x="358" y="1340"/>
                      </a:lnTo>
                      <a:lnTo>
                        <a:pt x="373" y="1360"/>
                      </a:lnTo>
                      <a:lnTo>
                        <a:pt x="388" y="1382"/>
                      </a:lnTo>
                      <a:lnTo>
                        <a:pt x="393" y="1415"/>
                      </a:lnTo>
                      <a:lnTo>
                        <a:pt x="399" y="1420"/>
                      </a:lnTo>
                      <a:lnTo>
                        <a:pt x="406" y="1425"/>
                      </a:lnTo>
                      <a:lnTo>
                        <a:pt x="407" y="1432"/>
                      </a:lnTo>
                      <a:lnTo>
                        <a:pt x="406" y="1437"/>
                      </a:lnTo>
                      <a:lnTo>
                        <a:pt x="394" y="1452"/>
                      </a:lnTo>
                      <a:lnTo>
                        <a:pt x="383" y="1462"/>
                      </a:lnTo>
                      <a:lnTo>
                        <a:pt x="365" y="1464"/>
                      </a:lnTo>
                      <a:lnTo>
                        <a:pt x="347" y="1464"/>
                      </a:lnTo>
                      <a:lnTo>
                        <a:pt x="347" y="1474"/>
                      </a:lnTo>
                      <a:lnTo>
                        <a:pt x="344" y="1483"/>
                      </a:lnTo>
                      <a:lnTo>
                        <a:pt x="343" y="1492"/>
                      </a:lnTo>
                      <a:lnTo>
                        <a:pt x="347" y="1500"/>
                      </a:lnTo>
                      <a:lnTo>
                        <a:pt x="352" y="1500"/>
                      </a:lnTo>
                      <a:lnTo>
                        <a:pt x="355" y="1497"/>
                      </a:lnTo>
                      <a:lnTo>
                        <a:pt x="362" y="1495"/>
                      </a:lnTo>
                      <a:lnTo>
                        <a:pt x="370" y="1497"/>
                      </a:lnTo>
                      <a:lnTo>
                        <a:pt x="366" y="1510"/>
                      </a:lnTo>
                      <a:lnTo>
                        <a:pt x="365" y="1522"/>
                      </a:lnTo>
                      <a:lnTo>
                        <a:pt x="373" y="1525"/>
                      </a:lnTo>
                      <a:lnTo>
                        <a:pt x="378" y="1529"/>
                      </a:lnTo>
                      <a:lnTo>
                        <a:pt x="375" y="1539"/>
                      </a:lnTo>
                      <a:lnTo>
                        <a:pt x="379" y="1550"/>
                      </a:lnTo>
                      <a:lnTo>
                        <a:pt x="378" y="1553"/>
                      </a:lnTo>
                      <a:lnTo>
                        <a:pt x="373" y="1558"/>
                      </a:lnTo>
                      <a:lnTo>
                        <a:pt x="370" y="1563"/>
                      </a:lnTo>
                      <a:lnTo>
                        <a:pt x="368" y="1568"/>
                      </a:lnTo>
                      <a:lnTo>
                        <a:pt x="370" y="1570"/>
                      </a:lnTo>
                      <a:lnTo>
                        <a:pt x="373" y="1571"/>
                      </a:lnTo>
                      <a:lnTo>
                        <a:pt x="373" y="1575"/>
                      </a:lnTo>
                      <a:lnTo>
                        <a:pt x="373" y="1578"/>
                      </a:lnTo>
                      <a:lnTo>
                        <a:pt x="381" y="1581"/>
                      </a:lnTo>
                      <a:lnTo>
                        <a:pt x="389" y="1576"/>
                      </a:lnTo>
                      <a:lnTo>
                        <a:pt x="385" y="1583"/>
                      </a:lnTo>
                      <a:lnTo>
                        <a:pt x="378" y="1588"/>
                      </a:lnTo>
                      <a:lnTo>
                        <a:pt x="373" y="1598"/>
                      </a:lnTo>
                      <a:lnTo>
                        <a:pt x="373" y="1612"/>
                      </a:lnTo>
                      <a:lnTo>
                        <a:pt x="375" y="1613"/>
                      </a:lnTo>
                      <a:lnTo>
                        <a:pt x="378" y="1613"/>
                      </a:lnTo>
                      <a:lnTo>
                        <a:pt x="380" y="1626"/>
                      </a:lnTo>
                      <a:lnTo>
                        <a:pt x="389" y="1634"/>
                      </a:lnTo>
                      <a:lnTo>
                        <a:pt x="386" y="1636"/>
                      </a:lnTo>
                      <a:lnTo>
                        <a:pt x="386" y="1638"/>
                      </a:lnTo>
                      <a:lnTo>
                        <a:pt x="391" y="1641"/>
                      </a:lnTo>
                      <a:lnTo>
                        <a:pt x="393" y="1641"/>
                      </a:lnTo>
                      <a:lnTo>
                        <a:pt x="396" y="1648"/>
                      </a:lnTo>
                      <a:lnTo>
                        <a:pt x="396" y="1658"/>
                      </a:lnTo>
                      <a:lnTo>
                        <a:pt x="396" y="1665"/>
                      </a:lnTo>
                      <a:lnTo>
                        <a:pt x="393" y="1667"/>
                      </a:lnTo>
                      <a:lnTo>
                        <a:pt x="385" y="1660"/>
                      </a:lnTo>
                      <a:lnTo>
                        <a:pt x="381" y="1663"/>
                      </a:lnTo>
                      <a:lnTo>
                        <a:pt x="380" y="1670"/>
                      </a:lnTo>
                      <a:lnTo>
                        <a:pt x="381" y="1682"/>
                      </a:lnTo>
                      <a:lnTo>
                        <a:pt x="383" y="1710"/>
                      </a:lnTo>
                      <a:lnTo>
                        <a:pt x="378" y="1733"/>
                      </a:lnTo>
                      <a:lnTo>
                        <a:pt x="361" y="1745"/>
                      </a:lnTo>
                      <a:lnTo>
                        <a:pt x="343" y="1754"/>
                      </a:lnTo>
                      <a:lnTo>
                        <a:pt x="339" y="1766"/>
                      </a:lnTo>
                      <a:lnTo>
                        <a:pt x="343" y="1777"/>
                      </a:lnTo>
                      <a:lnTo>
                        <a:pt x="355" y="1779"/>
                      </a:lnTo>
                      <a:lnTo>
                        <a:pt x="370" y="1776"/>
                      </a:lnTo>
                      <a:lnTo>
                        <a:pt x="363" y="1785"/>
                      </a:lnTo>
                      <a:lnTo>
                        <a:pt x="360" y="1794"/>
                      </a:lnTo>
                      <a:lnTo>
                        <a:pt x="361" y="1794"/>
                      </a:lnTo>
                      <a:lnTo>
                        <a:pt x="363" y="1794"/>
                      </a:lnTo>
                      <a:lnTo>
                        <a:pt x="360" y="1800"/>
                      </a:lnTo>
                      <a:lnTo>
                        <a:pt x="355" y="1807"/>
                      </a:lnTo>
                      <a:lnTo>
                        <a:pt x="355" y="1810"/>
                      </a:lnTo>
                      <a:lnTo>
                        <a:pt x="357" y="1812"/>
                      </a:lnTo>
                      <a:lnTo>
                        <a:pt x="362" y="1812"/>
                      </a:lnTo>
                      <a:lnTo>
                        <a:pt x="368" y="1810"/>
                      </a:lnTo>
                      <a:lnTo>
                        <a:pt x="368" y="1815"/>
                      </a:lnTo>
                      <a:lnTo>
                        <a:pt x="368" y="1820"/>
                      </a:lnTo>
                      <a:lnTo>
                        <a:pt x="385" y="1817"/>
                      </a:lnTo>
                      <a:lnTo>
                        <a:pt x="394" y="1802"/>
                      </a:lnTo>
                      <a:lnTo>
                        <a:pt x="402" y="1807"/>
                      </a:lnTo>
                      <a:lnTo>
                        <a:pt x="403" y="1813"/>
                      </a:lnTo>
                      <a:lnTo>
                        <a:pt x="391" y="1822"/>
                      </a:lnTo>
                      <a:lnTo>
                        <a:pt x="383" y="1832"/>
                      </a:lnTo>
                      <a:lnTo>
                        <a:pt x="383" y="1840"/>
                      </a:lnTo>
                      <a:lnTo>
                        <a:pt x="385" y="1850"/>
                      </a:lnTo>
                      <a:lnTo>
                        <a:pt x="391" y="1854"/>
                      </a:lnTo>
                      <a:lnTo>
                        <a:pt x="398" y="1856"/>
                      </a:lnTo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6" name=""/>
              <p:cNvSpPr/>
              <p:nvPr/>
            </p:nvSpPr>
            <p:spPr>
              <a:xfrm>
                <a:off x="1952280" y="2853360"/>
                <a:ext cx="309600" cy="3204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2509560" y="3686760"/>
                <a:ext cx="309600" cy="3204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2633400" y="4584240"/>
                <a:ext cx="309240" cy="3204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1642680" y="4712760"/>
                <a:ext cx="309240" cy="3204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519200" y="3751200"/>
                <a:ext cx="309240" cy="3204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1642680" y="4071600"/>
                <a:ext cx="123480" cy="6408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V="1">
                <a:off x="1952280" y="4776480"/>
                <a:ext cx="681120" cy="640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flipV="1">
                <a:off x="2695320" y="4007160"/>
                <a:ext cx="61920" cy="5767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V="1">
                <a:off x="1704960" y="3110040"/>
                <a:ext cx="309240" cy="6408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2199960" y="3174120"/>
                <a:ext cx="371160" cy="512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>
                <a:off x="1890360" y="3943440"/>
                <a:ext cx="680760" cy="8330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>
                <a:off x="1828440" y="3174120"/>
                <a:ext cx="247680" cy="15382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1828440" y="3879000"/>
                <a:ext cx="804960" cy="8334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flipV="1">
                <a:off x="2075760" y="3173760"/>
                <a:ext cx="618840" cy="1474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" name=""/>
            <p:cNvSpPr/>
            <p:nvPr/>
          </p:nvSpPr>
          <p:spPr>
            <a:xfrm>
              <a:off x="1814400" y="3876840"/>
              <a:ext cx="6858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4360" y="1196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Curso para la formación de docentes</a:t>
            </a:r>
            <a:br>
              <a:rPr sz="3200"/>
            </a:b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INDES - Washingt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50920" y="2465280"/>
            <a:ext cx="853416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Resultad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Un modelo de curso sobre “Gerencia Social para la Protección Social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Siete (7) directivos del Ministerio de la Protección Social, formados para convertirse en masa crítica para el camb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Veinte (20) docentes de cinco universidades formados para convertirse en multiplicad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Documentos técnicos inéditos elaborados para la Inicia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inco (5) propuestas de curso de cada universidad para llevar a cabo en las reg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Actividades de la Iniciativa en Colomb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50920" y="228600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 Curso piloto de formación en Gerencia Social para la Protección Social con el concurso de todos los docentes de la Iniciativa en Bogotá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0 Cursos de formación para servidores públicos del sector administrativo de la protección social en Medellín, Cali, Bogotá, Cartagena, Barranquilla, Bucaramanga y Moco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 Taller de formación para periodistas de los medios de comunicación nacionales en Bogotá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4360" y="1413000"/>
            <a:ext cx="77724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Resultados de la Iniciativ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10920" y="2204640"/>
            <a:ext cx="80643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Oferta académica en Gerencia Social para el Sistema de Protección Social de Colomb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Veinte (20) docentes en capacidad de multiplicar el curso de Gerencia Social para la Protección Soc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350  servidores públicos a nivel nacional formados para convertirse en la masa crítica para la consolidación del SP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Veinte (20) periodistas formados para informar reflexivamente sobre la política de protección soc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2T21:54:22Z</dcterms:created>
  <dc:creator>Presidencia de la República</dc:creator>
  <dc:description/>
  <dc:language>en-US</dc:language>
  <cp:lastModifiedBy>cecheverri</cp:lastModifiedBy>
  <dcterms:modified xsi:type="dcterms:W3CDTF">2006-01-24T20:37:08Z</dcterms:modified>
  <cp:revision>341</cp:revision>
  <dc:subject/>
  <dc:title>Plantilla presentaciones Power Point</dc:title>
</cp:coreProperties>
</file>